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ng" ContentType="image/png"/>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12.pct" ContentType="image/x-pict"/>
  <Override PartName="/ppt/media/image8.pct" ContentType="image/x-pict"/>
  <Override PartName="/ppt/media/image9.pct" ContentType="image/x-pict"/>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9</a:t>
            </a:r>
            <a:r>
              <a:rPr b="0" lang="en-US" sz="1300" spc="-1" strike="noStrike">
                <a:solidFill>
                  <a:srgbClr val="ffffff"/>
                </a:solidFill>
                <a:latin typeface="Times New Roman"/>
              </a:rPr>
              <a:t>                        Slide  </a:t>
            </a:r>
            <a:fld id="{4F9A0887-DE93-45DF-AECB-8F2134662C24}"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1828440"/>
            <a:ext cx="780444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Critical Systems Specific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1" name=""/>
          <p:cNvSpPr/>
          <p:nvPr/>
        </p:nvSpPr>
        <p:spPr>
          <a:xfrm>
            <a:off x="0" y="3505320"/>
            <a:ext cx="9144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nalysis and classification</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cess is concerned with understanding the likelihood that a risk will arise and the potential consequences if an accident or incident should occur.</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s may be categorised as:</a:t>
            </a:r>
            <a:endParaRPr b="0" lang="en-US" sz="28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Intolerable.</a:t>
            </a:r>
            <a:r>
              <a:rPr b="0" lang="en-GB" sz="2000" spc="-1" strike="noStrike">
                <a:solidFill>
                  <a:srgbClr val="ffffff"/>
                </a:solidFill>
                <a:latin typeface="Arial"/>
              </a:rPr>
              <a:t> Must never arise or result in an accident</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As low as reasonably practical(ALARP).</a:t>
            </a:r>
            <a:r>
              <a:rPr b="0" lang="en-GB" sz="2000" spc="-1" strike="noStrike">
                <a:solidFill>
                  <a:srgbClr val="ffffff"/>
                </a:solidFill>
                <a:latin typeface="Arial"/>
              </a:rPr>
              <a:t> Must minimise the possibility of risk given cost and schedule constrain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Acceptable.</a:t>
            </a:r>
            <a:r>
              <a:rPr b="0" lang="en-GB" sz="2000" spc="-1" strike="noStrike">
                <a:solidFill>
                  <a:srgbClr val="ffffff"/>
                </a:solidFill>
                <a:latin typeface="Arial"/>
              </a:rPr>
              <a:t> The consequences of the risk are acceptable and no extra costs should be incurred to reduce hazard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evels of risk</a:t>
            </a:r>
            <a:endParaRPr b="0" lang="en-US" sz="4000" spc="-1" strike="noStrike">
              <a:solidFill>
                <a:srgbClr val="ffffff"/>
              </a:solidFill>
              <a:latin typeface="Arial"/>
            </a:endParaRPr>
          </a:p>
        </p:txBody>
      </p:sp>
      <p:sp>
        <p:nvSpPr>
          <p:cNvPr id="62" name=""/>
          <p:cNvSpPr/>
          <p:nvPr/>
        </p:nvSpPr>
        <p:spPr>
          <a:xfrm>
            <a:off x="685800" y="1752480"/>
            <a:ext cx="76960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1981080" y="1905120"/>
            <a:ext cx="5334120" cy="4316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cial acceptability of risk</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 acceptability of a risk is determined by human, social and political consideration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 most societies, the boundaries between the regions are pushed upwards with time i.e. society is less willing to accept risk</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For example, the costs of cleaning up pollution may be less than the costs of preventing it but this may not be socially acceptabl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Risk assessment is subjectiv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Risks are identified as probable, unlikely, etc. This depends on who is making the assessment.</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ssessment</a:t>
            </a:r>
            <a:endParaRPr b="0" lang="en-US" sz="4000" spc="-1" strike="noStrike">
              <a:solidFill>
                <a:srgbClr val="ffffff"/>
              </a:solidFill>
              <a:latin typeface="Arial"/>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e the risk probability and the risk sever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normally possible to do this precisely so relative values are used such as ‘unlikely’, ‘rare’, ‘very high’, etc.</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must be to exclude risks that are likely to arise or that have high seve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ssessment - insulin pump</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70"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 name=""/>
          <p:cNvGraphicFramePr/>
          <p:nvPr/>
        </p:nvGraphicFramePr>
        <p:xfrm>
          <a:off x="609480" y="1905120"/>
          <a:ext cx="8077320" cy="3875040"/>
        </p:xfrm>
        <a:graphic>
          <a:graphicData uri="http://schemas.openxmlformats.org/presentationml/2006/ole">
            <p:oleObj progId="Word.Document.12" r:id="rId1" spid="">
              <p:embed/>
              <p:pic>
                <p:nvPicPr>
                  <p:cNvPr id="72" name="" descr=""/>
                  <p:cNvPicPr/>
                  <p:nvPr/>
                </p:nvPicPr>
                <p:blipFill>
                  <a:blip r:embed="rId2"/>
                  <a:stretch/>
                </p:blipFill>
                <p:spPr>
                  <a:xfrm>
                    <a:off x="609480" y="1905120"/>
                    <a:ext cx="8077320" cy="38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decomposition</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cerned with discovering the root causes of risks in a particular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chniques have been mostly derived from safety-critical systems and can b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ductive, bottom-up techniques. Start with a proposed system failure and assess the hazards that could arise from that failure;</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ductive, top-down techniques. Start with a hazard and deduce what the causes of this could 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tree analysis</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deductive top-down techniqu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ut the risk or hazard at the root of the tree and identify the system states that could lead to that hazar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re appropriate, link these with ‘and’ or ‘or’ condi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goal should be to minimise the number of single causes of system fail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fault tree</a:t>
            </a:r>
            <a:endParaRPr b="0" lang="en-US" sz="4000" spc="-1" strike="noStrike">
              <a:solidFill>
                <a:srgbClr val="ffffff"/>
              </a:solidFill>
              <a:latin typeface="Arial"/>
            </a:endParaRPr>
          </a:p>
        </p:txBody>
      </p:sp>
      <p:sp>
        <p:nvSpPr>
          <p:cNvPr id="78" name=""/>
          <p:cNvSpPr/>
          <p:nvPr/>
        </p:nvSpPr>
        <p:spPr>
          <a:xfrm>
            <a:off x="380880" y="1447920"/>
            <a:ext cx="8458200" cy="5029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9" name="" descr=""/>
          <p:cNvPicPr/>
          <p:nvPr/>
        </p:nvPicPr>
        <p:blipFill>
          <a:blip r:embed="rId1"/>
          <a:stretch/>
        </p:blipFill>
        <p:spPr>
          <a:xfrm>
            <a:off x="2743200" y="1523880"/>
            <a:ext cx="3746520" cy="481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reduction assessment</a:t>
            </a:r>
            <a:endParaRPr b="0" lang="en-US" sz="4000" spc="-1" strike="noStrike">
              <a:solidFill>
                <a:srgbClr val="ffffff"/>
              </a:solidFill>
              <a:latin typeface="Arial"/>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this process is to identify dependability requirements that specify how the risks should be managed and ensure that accidents/incidents do not aris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reduction strategi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avoidanc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detection and removal;</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mage lim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ategy use</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rmally, in critical systems, a mix of risk reduction strategies are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a chemical plant control system, the system will include sensors to detect and correct excess pressure in the reacto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it will also include an independent protection system that opens a relief valve if dangerously high pressure is detec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dependability requirements may be identified by analysing the risks faced by critical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afety requirements are generated from the system risk analysi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the derivation of secur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metrics used for reliability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 software risk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rithmetic error</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omputation causes the value of a variable to overflow or underflow;</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be include an exception handler for each type of arithmetic error.</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gorithmic error</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are dose to be delivered with previous dose or safe maximum doses. Reduce dose if too hig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6000"/>
            <a:ext cx="822960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quirements - insulin pump</a:t>
            </a:r>
            <a:endParaRPr b="0" lang="en-US" sz="4000" spc="-1" strike="noStrike">
              <a:solidFill>
                <a:srgbClr val="ffffff"/>
              </a:solidFill>
              <a:latin typeface="Arial"/>
            </a:endParaRPr>
          </a:p>
        </p:txBody>
      </p:sp>
      <p:sp>
        <p:nvSpPr>
          <p:cNvPr id="87" name=""/>
          <p:cNvSpPr/>
          <p:nvPr/>
        </p:nvSpPr>
        <p:spPr>
          <a:xfrm>
            <a:off x="304920" y="1905120"/>
            <a:ext cx="861048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8" name=""/>
          <p:cNvGraphicFramePr/>
          <p:nvPr/>
        </p:nvGraphicFramePr>
        <p:xfrm>
          <a:off x="533520" y="2286000"/>
          <a:ext cx="8229600" cy="3165480"/>
        </p:xfrm>
        <a:graphic>
          <a:graphicData uri="http://schemas.openxmlformats.org/presentationml/2006/ole">
            <p:oleObj progId="Word.Document.12" r:id="rId1" spid="">
              <p:embed/>
              <p:pic>
                <p:nvPicPr>
                  <p:cNvPr id="89" name="" descr=""/>
                  <p:cNvPicPr/>
                  <p:nvPr/>
                </p:nvPicPr>
                <p:blipFill>
                  <a:blip r:embed="rId2"/>
                  <a:stretch/>
                </p:blipFill>
                <p:spPr>
                  <a:xfrm>
                    <a:off x="533520" y="2286000"/>
                    <a:ext cx="822960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specification</a:t>
            </a:r>
            <a:endParaRPr b="0" lang="en-US" sz="4000" spc="-1" strike="noStrike">
              <a:solidFill>
                <a:srgbClr val="ffffff"/>
              </a:solidFill>
              <a:latin typeface="Arial"/>
            </a:endParaRPr>
          </a:p>
        </p:txBody>
      </p:sp>
      <p:sp>
        <p:nvSpPr>
          <p:cNvPr id="91"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afety requirements of a system should be separately specifi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requirements should be based on an analysis of the possible hazards and risks as previously discuss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requirements usually apply to the system as a whole rather than to individual sub-systems. In systems engineering terms, the safety of a system is an emergent propert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EC 61508</a:t>
            </a:r>
            <a:endParaRPr b="0" lang="en-US" sz="4000" spc="-1" strike="noStrike">
              <a:solidFill>
                <a:srgbClr val="ffffff"/>
              </a:solidFill>
              <a:latin typeface="Arial"/>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international standard for safety management that was specifically designed for protection systems - it is not applicable to all safety-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corporates a model of the safety life cycle and covers all aspects of safety management from scope definition to system decommiss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9960" y="306000"/>
            <a:ext cx="824544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ntrol system safety requirements</a:t>
            </a:r>
            <a:endParaRPr b="0" lang="en-US" sz="4000" spc="-1" strike="noStrike">
              <a:solidFill>
                <a:srgbClr val="ffffff"/>
              </a:solidFill>
              <a:latin typeface="Arial"/>
            </a:endParaRPr>
          </a:p>
        </p:txBody>
      </p:sp>
      <p:sp>
        <p:nvSpPr>
          <p:cNvPr id="9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914400" y="1828800"/>
            <a:ext cx="7010280" cy="41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
          <p:cNvSpPr/>
          <p:nvPr/>
        </p:nvSpPr>
        <p:spPr>
          <a:xfrm>
            <a:off x="326520" y="6523200"/>
            <a:ext cx="851040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Times New Roman"/>
              </a:rPr>
              <a:t>©Ian Sommerville 2000</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Dependable systems specification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Slide </a:t>
            </a:r>
            <a:fld id="{9C634498-E660-46B7-9750-1CA4DFDDCF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afety life-cycle</a:t>
            </a:r>
            <a:endParaRPr b="0" lang="en-US" sz="4000" spc="-1" strike="noStrike">
              <a:solidFill>
                <a:srgbClr val="ffffff"/>
              </a:solidFill>
              <a:latin typeface="Arial"/>
            </a:endParaRPr>
          </a:p>
        </p:txBody>
      </p:sp>
      <p:sp>
        <p:nvSpPr>
          <p:cNvPr id="99" name=""/>
          <p:cNvSpPr/>
          <p:nvPr/>
        </p:nvSpPr>
        <p:spPr>
          <a:xfrm>
            <a:off x="228600" y="1600200"/>
            <a:ext cx="85345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1"/>
          <a:stretch/>
        </p:blipFill>
        <p:spPr>
          <a:xfrm>
            <a:off x="2743200" y="1676520"/>
            <a:ext cx="3670200" cy="4724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quirements</a:t>
            </a:r>
            <a:endParaRPr b="0" lang="en-US" sz="4000" spc="-1" strike="noStrike">
              <a:solidFill>
                <a:srgbClr val="ffffff"/>
              </a:solidFill>
              <a:latin typeface="Arial"/>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safety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define the safety functions of the protection system i.e. the define how the system should provide protec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integrity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define the reliability and availability of the protection system. They are based on expected usage and are classified using a safety integrity level from 1 to 4.</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specification</a:t>
            </a:r>
            <a:endParaRPr b="0" lang="en-US" sz="4000" spc="-1" strike="noStrike">
              <a:solidFill>
                <a:srgbClr val="ffffff"/>
              </a:solidFill>
              <a:latin typeface="Arial"/>
            </a:endParaRPr>
          </a:p>
        </p:txBody>
      </p:sp>
      <p:sp>
        <p:nvSpPr>
          <p:cNvPr id="10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5000"/>
          </a:bodyPr>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s some similarities to safety specification</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t possible to specify security requirements quantitatively;</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requirements are often ‘shall not’ rather than ‘shall’ requirements.</a:t>
            </a:r>
            <a:endParaRPr b="0" lang="en-US" sz="2000" spc="-1" strike="noStrike">
              <a:solidFill>
                <a:srgbClr val="ffffff"/>
              </a:solidFill>
              <a:latin typeface="Arial"/>
            </a:endParaRPr>
          </a:p>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fferences</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well-defined notion of a security life cycle for security management; No standards;</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Generic threats rather than system specific hazards;</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ature security technology (encryption, etc.). However, there are problems in transferring this into general use;</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dominance of a single supplier (Microsoft) means that huge numbers of systems may be affected by security fail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ecurity specification process</a:t>
            </a:r>
            <a:endParaRPr b="0" lang="en-US" sz="4000" spc="-1" strike="noStrike">
              <a:solidFill>
                <a:srgbClr val="ffffff"/>
              </a:solidFill>
              <a:latin typeface="Arial"/>
            </a:endParaRPr>
          </a:p>
        </p:txBody>
      </p:sp>
      <p:sp>
        <p:nvSpPr>
          <p:cNvPr id="106" name=""/>
          <p:cNvSpPr/>
          <p:nvPr/>
        </p:nvSpPr>
        <p:spPr>
          <a:xfrm>
            <a:off x="30492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 descr=""/>
          <p:cNvPicPr/>
          <p:nvPr/>
        </p:nvPicPr>
        <p:blipFill>
          <a:blip r:embed="rId1"/>
          <a:stretch/>
        </p:blipFill>
        <p:spPr>
          <a:xfrm>
            <a:off x="609480" y="2133720"/>
            <a:ext cx="7925040" cy="371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in security specification</a:t>
            </a:r>
            <a:endParaRPr b="0" lang="en-US" sz="4000" spc="-1" strike="noStrike">
              <a:solidFill>
                <a:srgbClr val="ffffff"/>
              </a:solidFill>
              <a:latin typeface="Arial"/>
            </a:endParaRPr>
          </a:p>
        </p:txBody>
      </p:sp>
      <p:sp>
        <p:nvSpPr>
          <p:cNvPr id="109" name="PlaceHolder 2"/>
          <p:cNvSpPr>
            <a:spLocks noGrp="1"/>
          </p:cNvSpPr>
          <p:nvPr>
            <p:ph/>
          </p:nvPr>
        </p:nvSpPr>
        <p:spPr>
          <a:xfrm>
            <a:off x="685800" y="1600200"/>
            <a:ext cx="780408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Asset identification and evaluation</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assets (data and programs) and their required degree of protection are identified. The degree of required protection depends on the asset value so that a password file (say) is more valuable than a set of public web pages.</a:t>
            </a:r>
            <a:endParaRPr b="0" lang="en-US" sz="20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Threat analysis and risk assessment</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Possible security threats are identified and the risks associated with each of these threats is estimated.</a:t>
            </a:r>
            <a:endParaRPr b="0" lang="en-US" sz="20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Threat assignment</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Identified threats are related to the assets so that, for each identified asset, there is a list of associated threats.</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driven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reliability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in security specification</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Technology analysis</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vailable security technologies and their applicability against the identified threats are assess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Security requirements specification</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ecurity requirements are specified. Where appropriate, these will explicitly identified the security technologies that may be used to protect against different threats to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security requirement</a:t>
            </a:r>
            <a:endParaRPr b="0" lang="en-US" sz="4000" spc="-1" strike="noStrike">
              <a:solidFill>
                <a:srgbClr val="ffffff"/>
              </a:solidFill>
              <a:latin typeface="Arial"/>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ic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hentic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horis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mmunit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grit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rusion detec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repudi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ivac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 auditing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maintenance security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security requirements</a:t>
            </a:r>
            <a:endParaRPr b="0" lang="en-US" sz="4000" spc="-1" strike="noStrike">
              <a:solidFill>
                <a:srgbClr val="ffffff"/>
              </a:solidFill>
              <a:latin typeface="Arial"/>
            </a:endParaRPr>
          </a:p>
        </p:txBody>
      </p:sp>
      <p:sp>
        <p:nvSpPr>
          <p:cNvPr id="115" name=""/>
          <p:cNvSpPr/>
          <p:nvPr/>
        </p:nvSpPr>
        <p:spPr>
          <a:xfrm>
            <a:off x="228600" y="182880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6" name=""/>
          <p:cNvGraphicFramePr/>
          <p:nvPr/>
        </p:nvGraphicFramePr>
        <p:xfrm>
          <a:off x="380880" y="2209680"/>
          <a:ext cx="8001000" cy="3067200"/>
        </p:xfrm>
        <a:graphic>
          <a:graphicData uri="http://schemas.openxmlformats.org/presentationml/2006/ole">
            <p:oleObj progId="Word.Document.12" r:id="rId1" spid="">
              <p:embed/>
              <p:pic>
                <p:nvPicPr>
                  <p:cNvPr id="117" name="" descr=""/>
                  <p:cNvPicPr/>
                  <p:nvPr/>
                </p:nvPicPr>
                <p:blipFill>
                  <a:blip r:embed="rId2"/>
                  <a:stretch/>
                </p:blipFill>
                <p:spPr>
                  <a:xfrm>
                    <a:off x="380880" y="2209680"/>
                    <a:ext cx="8001000" cy="30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reliability specification</a:t>
            </a:r>
            <a:endParaRPr b="0" lang="en-US" sz="4000" spc="-1" strike="noStrike">
              <a:solidFill>
                <a:srgbClr val="ffffff"/>
              </a:solidFill>
              <a:latin typeface="Arial"/>
            </a:endParaRPr>
          </a:p>
        </p:txBody>
      </p:sp>
      <p:sp>
        <p:nvSpPr>
          <p:cNvPr id="119" name="PlaceHolder 2"/>
          <p:cNvSpPr>
            <a:spLocks noGrp="1"/>
          </p:cNvSpPr>
          <p:nvPr>
            <p:ph/>
          </p:nvPr>
        </p:nvSpPr>
        <p:spPr>
          <a:xfrm>
            <a:off x="529920" y="1676520"/>
            <a:ext cx="8250120" cy="4505040"/>
          </a:xfrm>
          <a:prstGeom prst="rect">
            <a:avLst/>
          </a:prstGeom>
          <a:noFill/>
          <a:ln w="0">
            <a:noFill/>
          </a:ln>
        </p:spPr>
        <p:txBody>
          <a:bodyPr lIns="90720" rIns="90720" tIns="44640" bIns="44640" anchor="t">
            <a:normAutofit/>
          </a:bodyPr>
          <a:p>
            <a:pPr marL="488880" indent="-488880">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Hardware reliability</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hat is the probability of a hardware component failing and how long does it take to repair that component?</a:t>
            </a:r>
            <a:endParaRPr b="0" lang="en-US" sz="20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Software reliability</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likely is it that a software component will produce an incorrect output. Software failures are different from hardware failures in that software does not wear out. It can continue in operation even after an incorrect result has been produced.  </a:t>
            </a:r>
            <a:endParaRPr b="0" lang="en-US" sz="20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Operator reliability</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likely is it that the operator of a system will make an error?</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Functional reliability requirements</a:t>
            </a:r>
            <a:endParaRPr b="0" lang="en-US" sz="3600" spc="-1" strike="noStrike">
              <a:solidFill>
                <a:srgbClr val="ffffff"/>
              </a:solidFill>
              <a:latin typeface="Arial"/>
            </a:endParaRPr>
          </a:p>
        </p:txBody>
      </p:sp>
      <p:sp>
        <p:nvSpPr>
          <p:cNvPr id="121" name="PlaceHolder 2"/>
          <p:cNvSpPr>
            <a:spLocks noGrp="1"/>
          </p:cNvSpPr>
          <p:nvPr>
            <p:ph/>
          </p:nvPr>
        </p:nvSpPr>
        <p:spPr>
          <a:xfrm>
            <a:off x="534600" y="1606320"/>
            <a:ext cx="7805880" cy="41288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predefined range for all values that are input by the operator shall be defined and the system shall check that all operator inputs fall within this predefined range.</a:t>
            </a:r>
            <a:endParaRPr b="0" lang="en-US" sz="24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shall check all disks for bad blocks when it is initialised.</a:t>
            </a:r>
            <a:endParaRPr b="0" lang="en-US" sz="24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ust use N-version programming to implement the braking control system.</a:t>
            </a:r>
            <a:endParaRPr b="0" lang="en-US" sz="2400" spc="-1" strike="noStrike">
              <a:solidFill>
                <a:srgbClr val="ffffff"/>
              </a:solidFill>
              <a:latin typeface="Arial"/>
            </a:endParaRPr>
          </a:p>
          <a:p>
            <a:pPr marL="488880" indent="-488880" algn="just">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ust be implemented in a safe subset of Ada and checked using static analy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quired level of system reliability required should be expressed quantitatively.</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is a dynamic system attribute- reliability specifications  related to the source code are meaningless.</a:t>
            </a:r>
            <a:endParaRPr b="0" lang="en-US" sz="2400" spc="-1" strike="noStrike">
              <a:solidFill>
                <a:srgbClr val="ffffff"/>
              </a:solidFill>
              <a:latin typeface="Arial"/>
            </a:endParaRPr>
          </a:p>
          <a:p>
            <a:pPr lvl="1" marL="1077840" indent="-47448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more than N faults/1000 lines;</a:t>
            </a:r>
            <a:endParaRPr b="0" lang="en-US" sz="2000" spc="-1" strike="noStrike">
              <a:solidFill>
                <a:srgbClr val="ffffff"/>
              </a:solidFill>
              <a:latin typeface="Arial"/>
            </a:endParaRPr>
          </a:p>
          <a:p>
            <a:pPr lvl="1" marL="1077840" indent="-47448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is is only useful for a post-delivery process analysis where you are trying to assess how good your development techniques are.</a:t>
            </a:r>
            <a:endParaRPr b="0" lang="en-US" sz="20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appropriate reliability metric should be chosen to specify the overall system reliability.</a:t>
            </a:r>
            <a:endParaRPr b="0" lang="en-US" sz="2400" spc="-1" strike="noStrike">
              <a:solidFill>
                <a:srgbClr val="ffffff"/>
              </a:solidFill>
              <a:latin typeface="Arial"/>
            </a:endParaRPr>
          </a:p>
        </p:txBody>
      </p:sp>
      <p:sp>
        <p:nvSpPr>
          <p:cNvPr id="123" name="PlaceHolder 2"/>
          <p:cNvSpPr>
            <a:spLocks noGrp="1"/>
          </p:cNvSpPr>
          <p:nvPr>
            <p:ph type="title"/>
          </p:nvPr>
        </p:nvSpPr>
        <p:spPr>
          <a:xfrm>
            <a:off x="380520" y="263520"/>
            <a:ext cx="8534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Non-functional reliability specification</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trics are units of measurement of system reliabilit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liability is measured by counting the number of operational failures and, where appropriate, relating these to the demands made on the system and the time that the system has been operational.</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long-term measurement programme is required to assess the reliability of critical systems.</a:t>
            </a:r>
            <a:endParaRPr b="0" lang="en-US" sz="2800" spc="-1" strike="noStrike">
              <a:solidFill>
                <a:srgbClr val="ffffff"/>
              </a:solidFill>
              <a:latin typeface="Arial"/>
            </a:endParaRPr>
          </a:p>
        </p:txBody>
      </p:sp>
      <p:sp>
        <p:nvSpPr>
          <p:cNvPr id="125"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etrics</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
          <p:cNvSpPr/>
          <p:nvPr/>
        </p:nvSpPr>
        <p:spPr>
          <a:xfrm>
            <a:off x="22860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etrics</a:t>
            </a:r>
            <a:endParaRPr b="0" lang="en-US" sz="4000" spc="-1" strike="noStrike">
              <a:solidFill>
                <a:srgbClr val="ffffff"/>
              </a:solidFill>
              <a:latin typeface="Arial"/>
            </a:endParaRPr>
          </a:p>
        </p:txBody>
      </p:sp>
      <p:graphicFrame>
        <p:nvGraphicFramePr>
          <p:cNvPr id="128" name=""/>
          <p:cNvGraphicFramePr/>
          <p:nvPr/>
        </p:nvGraphicFramePr>
        <p:xfrm>
          <a:off x="533520" y="1981080"/>
          <a:ext cx="7924680" cy="3513240"/>
        </p:xfrm>
        <a:graphic>
          <a:graphicData uri="http://schemas.openxmlformats.org/presentationml/2006/ole">
            <p:oleObj progId="Word.Document.12" r:id="rId1" spid="">
              <p:embed/>
              <p:pic>
                <p:nvPicPr>
                  <p:cNvPr id="129" name="" descr=""/>
                  <p:cNvPicPr/>
                  <p:nvPr/>
                </p:nvPicPr>
                <p:blipFill>
                  <a:blip r:embed="rId2"/>
                  <a:stretch/>
                </p:blipFill>
                <p:spPr>
                  <a:xfrm>
                    <a:off x="533520" y="1981080"/>
                    <a:ext cx="792468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ability of failure on demand</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the probability that the system will fail when a service request is made. Useful when demands for service are intermittent and relatively infrequ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ropriate for protection systems where services are demanded occasionally and where there are serious consequence if the service is not delive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many safety-critical systems with exception management compon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mergency shutdown system in a chemical plant.</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Rate of fault occurrence (ROCOF)</a:t>
            </a:r>
            <a:endParaRPr b="0" lang="en-US" sz="36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flects the rate of occurrence of failure in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OCOF of 0.002 means 2 failures are likely in each 1000 operational time units e.g. 2 failures per 1000 hours of oper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operating systems, transaction processing systems where the system has to process a large number of similar requests that are relatively frequ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redit card processing system, airline booking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requirement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Functional requirements</a:t>
            </a:r>
            <a:r>
              <a:rPr b="0" lang="en-US" sz="2800" spc="-1" strike="noStrike">
                <a:solidFill>
                  <a:srgbClr val="ffffff"/>
                </a:solidFill>
                <a:latin typeface="Arial"/>
              </a:rPr>
              <a:t> to define error checking and recovery facilities and protection against system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Non-functional requirements</a:t>
            </a:r>
            <a:r>
              <a:rPr b="0" lang="en-US" sz="2800" spc="-1" strike="noStrike">
                <a:solidFill>
                  <a:srgbClr val="ffffff"/>
                </a:solidFill>
                <a:latin typeface="Arial"/>
              </a:rPr>
              <a:t> defining the required reliability and availability of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Excluding requirements</a:t>
            </a:r>
            <a:r>
              <a:rPr b="0" lang="en-US" sz="2800" spc="-1" strike="noStrike">
                <a:solidFill>
                  <a:srgbClr val="ffffff"/>
                </a:solidFill>
                <a:latin typeface="Arial"/>
              </a:rPr>
              <a:t> that define states and conditions that must not ar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n time to failure</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asure of the time between observed failures of the system. Is the reciprocal of ROCOF for stable system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TTF of 500 means that the mean time between failures is 500 time uni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systems with long transactions i.e. where system processing takes a long time. MTTF should be longer than transaction length</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puter-aided design systems where a designer will work on a design for several hours, word processor systems.</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vailability</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asure of the fraction of the time that the system is available for us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akes repair and restart time into accou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ailability of 0.998 means software is available for 998 out of 1000 time uni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evant for non-stop, continuously running systems </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elephone switching systems, railway signalling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81691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 spec.</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asurements do NOT take the consequences of failure into accou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nsient faults may have no real consequences but other faults may cause data loss or corruption and loss of system servi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ay be necessary to identify different failure classes and use different metrics for each of these. The reliability specification must be structured.</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ilure consequences</a:t>
            </a:r>
            <a:endParaRPr b="0" lang="en-US" sz="4000" spc="-1" strike="noStrike">
              <a:solidFill>
                <a:srgbClr val="ffffff"/>
              </a:solidFill>
              <a:latin typeface="Arial"/>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n specifying reliability, it is not just the number of system failures that matter but the consequences of these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ilures that have serious consequences are clearly more damaging than those where repair and recovery is straightforwar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some cases, therefore, different reliability specifications for different types of failure may be def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2" name=""/>
          <p:cNvSpPr/>
          <p:nvPr/>
        </p:nvSpPr>
        <p:spPr>
          <a:xfrm>
            <a:off x="304920" y="2133720"/>
            <a:ext cx="8458200" cy="39621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ilure classification</a:t>
            </a:r>
            <a:endParaRPr b="0" lang="en-US" sz="4000" spc="-1" strike="noStrike">
              <a:solidFill>
                <a:srgbClr val="ffffff"/>
              </a:solidFill>
              <a:latin typeface="Arial"/>
            </a:endParaRPr>
          </a:p>
        </p:txBody>
      </p:sp>
      <p:graphicFrame>
        <p:nvGraphicFramePr>
          <p:cNvPr id="144" name=""/>
          <p:cNvGraphicFramePr/>
          <p:nvPr/>
        </p:nvGraphicFramePr>
        <p:xfrm>
          <a:off x="838080" y="2286000"/>
          <a:ext cx="7543800" cy="3578400"/>
        </p:xfrm>
        <a:graphic>
          <a:graphicData uri="http://schemas.openxmlformats.org/presentationml/2006/ole">
            <p:oleObj progId="Word.Document.12" r:id="rId1" spid="">
              <p:embed/>
              <p:pic>
                <p:nvPicPr>
                  <p:cNvPr id="145" name="" descr=""/>
                  <p:cNvPicPr/>
                  <p:nvPr/>
                </p:nvPicPr>
                <p:blipFill>
                  <a:blip r:embed="rId2"/>
                  <a:stretch/>
                </p:blipFill>
                <p:spPr>
                  <a:xfrm>
                    <a:off x="838080" y="2286000"/>
                    <a:ext cx="7543800" cy="357840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120" y="1600200"/>
            <a:ext cx="8001000" cy="449568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each sub-system, analyse the consequences of possible system failur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rom the system failure analysis, partition failures into appropriate class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each failure class identified, set out the reliability using an appropriate metric. Different metrics may be used for different reliabil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ntify functional reliability requirements to reduce the chances of critical failures.</a:t>
            </a:r>
            <a:endParaRPr b="0" lang="en-US" sz="2800" spc="-1" strike="noStrike">
              <a:solidFill>
                <a:srgbClr val="ffffff"/>
              </a:solidFill>
              <a:latin typeface="Arial"/>
            </a:endParaRPr>
          </a:p>
        </p:txBody>
      </p:sp>
      <p:sp>
        <p:nvSpPr>
          <p:cNvPr id="14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eps to a reliability specification</a:t>
            </a:r>
            <a:endParaRPr b="0" lang="en-US" sz="4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Bank auto-teller system</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ch machine in a network is used 300 times a da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ank has 1000 machin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ifetime of software release is 2 yea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ch machine handles about 200, 000 transa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bout 300, 000 database transactions in total per day</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
          <p:cNvSpPr/>
          <p:nvPr/>
        </p:nvSpPr>
        <p:spPr>
          <a:xfrm>
            <a:off x="228600" y="2133720"/>
            <a:ext cx="8458200" cy="365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533520" y="380520"/>
            <a:ext cx="81691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specification for an ATM</a:t>
            </a:r>
            <a:endParaRPr b="0" lang="en-US" sz="4000" spc="-1" strike="noStrike">
              <a:solidFill>
                <a:srgbClr val="ffffff"/>
              </a:solidFill>
              <a:latin typeface="Arial"/>
            </a:endParaRPr>
          </a:p>
        </p:txBody>
      </p:sp>
      <p:graphicFrame>
        <p:nvGraphicFramePr>
          <p:cNvPr id="152" name=""/>
          <p:cNvGraphicFramePr/>
          <p:nvPr/>
        </p:nvGraphicFramePr>
        <p:xfrm>
          <a:off x="380880" y="2514600"/>
          <a:ext cx="8763120" cy="2824200"/>
        </p:xfrm>
        <a:graphic>
          <a:graphicData uri="http://schemas.openxmlformats.org/presentationml/2006/ole">
            <p:oleObj progId="Word.Document.12" r:id="rId1" spid="">
              <p:embed/>
              <p:pic>
                <p:nvPicPr>
                  <p:cNvPr id="153" name="" descr=""/>
                  <p:cNvPicPr/>
                  <p:nvPr/>
                </p:nvPicPr>
                <p:blipFill>
                  <a:blip r:embed="rId2"/>
                  <a:stretch/>
                </p:blipFill>
                <p:spPr>
                  <a:xfrm>
                    <a:off x="380880" y="2514600"/>
                    <a:ext cx="8763120" cy="282420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pecification validation</a:t>
            </a:r>
            <a:endParaRPr b="0" lang="en-US" sz="4000" spc="-1" strike="noStrike">
              <a:solidFill>
                <a:srgbClr val="ffffff"/>
              </a:solidFill>
              <a:latin typeface="Arial"/>
            </a:endParaRPr>
          </a:p>
        </p:txBody>
      </p:sp>
      <p:sp>
        <p:nvSpPr>
          <p:cNvPr id="1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impossible to empirically validate very high reliability specific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 database corruptions means POFOD of less than 1 in 200 mill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a transaction takes 1 second, then simulating one day’s transactions takes 3.5 day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would take longer than the system’s lifetime to test it for reliability.</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analysis is the basis for identifying system reliabil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analysis is concerned with assessing the chances of a risk arising and classifying risks according to their serious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requirements should identify assets and define how these should be protec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requirements may be defined quantitativ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driven specification</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ritical systems specification should be risk-drive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approach has been widely used in safety and security-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the specification process should be to understand the risks (safety, security, etc.) faced by the system and to define requirements that reduce these ris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trics include POFOD, ROCOF, MTTF and availabi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n-functional reliability specifications can lead to functional system requirements to reduce failures or deal with their occur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0600" y="367920"/>
            <a:ext cx="7942320" cy="6872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of risk-based analysis</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identific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dentify potential risks that may ari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analysis and classific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ssess the seriousness of each risk.</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decomposi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compose risks to discover their potential root cause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reduction assessm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fine how each risk must be taken into eliminated or reduced when the system is designed.</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driven specification</a:t>
            </a:r>
            <a:endParaRPr b="0" lang="en-US" sz="4000" spc="-1" strike="noStrike">
              <a:solidFill>
                <a:srgbClr val="ffffff"/>
              </a:solidFill>
              <a:latin typeface="Arial"/>
            </a:endParaRPr>
          </a:p>
        </p:txBody>
      </p:sp>
      <p:sp>
        <p:nvSpPr>
          <p:cNvPr id="53" name=""/>
          <p:cNvSpPr/>
          <p:nvPr/>
        </p:nvSpPr>
        <p:spPr>
          <a:xfrm>
            <a:off x="380880" y="2286000"/>
            <a:ext cx="8458200" cy="2971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762120" y="2895480"/>
            <a:ext cx="7619760" cy="18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identification</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y the risks faced by the critical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safety-critical systems, the risks are the hazards that can lead to accid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security-critical systems, the risks are the potential attacks on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risk identification, you should identify risk classes and position risks in these classe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rvice failur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lectrical risk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risks</a:t>
            </a:r>
            <a:endParaRPr b="0" lang="en-US" sz="4000" spc="-1" strike="noStrike">
              <a:solidFill>
                <a:srgbClr val="ffffff"/>
              </a:solidFill>
              <a:latin typeface="Arial"/>
            </a:endParaRPr>
          </a:p>
        </p:txBody>
      </p:sp>
      <p:sp>
        <p:nvSpPr>
          <p:cNvPr id="5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sulin overdose (servic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sulin underdose (servic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wer failure due to exhausted battery (electr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lectrical interference with other medical equipment (electr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or sensor and actuator contact (phys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ts of machine break off in body (phys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fection caused by introduction of machine (biolog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ergic reaction to materials or insulin (bi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04T16:39:45Z</dcterms:created>
  <dc:creator/>
  <dc:description/>
  <dc:language>en-US</dc:language>
  <cp:lastModifiedBy>Ian Sommerville</cp:lastModifiedBy>
  <cp:lastPrinted>2000-07-14T10:52:06Z</cp:lastPrinted>
  <dcterms:modified xsi:type="dcterms:W3CDTF">2004-04-27T22:17:32Z</dcterms:modified>
  <cp:revision>32</cp:revision>
  <dc:subject/>
  <dc:title>Dependable Systems Specification </dc:title>
</cp:coreProperties>
</file>