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907588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73160" y="3834360"/>
            <a:ext cx="845496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412596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05760" y="1676520"/>
            <a:ext cx="412596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73160" y="3834360"/>
            <a:ext cx="412596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405760" y="3834360"/>
            <a:ext cx="412596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272232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31920" y="1676520"/>
            <a:ext cx="272232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90680" y="1676520"/>
            <a:ext cx="272232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73160" y="3834360"/>
            <a:ext cx="272232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31920" y="3834360"/>
            <a:ext cx="272232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90680" y="3834360"/>
            <a:ext cx="272232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4125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405760" y="1676520"/>
            <a:ext cx="4125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25400" y="306000"/>
            <a:ext cx="845496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412596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05760" y="1676520"/>
            <a:ext cx="4125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73160" y="3834360"/>
            <a:ext cx="412596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4125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05760" y="1676520"/>
            <a:ext cx="412596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05760" y="3834360"/>
            <a:ext cx="412596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412596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05760" y="1676520"/>
            <a:ext cx="412596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3160" y="3834360"/>
            <a:ext cx="845496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7000" y="1371600"/>
            <a:ext cx="987912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15960" y="6523200"/>
            <a:ext cx="883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2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FB7D9B64-2E17-49CC-B8CC-92C2A32D446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45532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cio-technical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962520"/>
            <a:ext cx="990612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of component inter-dependencie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ults can be propagated through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failures often occur because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foreseen inter-relationships betwee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probably impossible to anticipate al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e component relationshi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reliability measures may give a fals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of the system reli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reliability enginee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 algn="just"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ardware reliabil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 algn="just"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is the probability of a hardware component failing and how long does it take to repair that compon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 algn="just">
              <a:spcBef>
                <a:spcPts val="601"/>
              </a:spcBef>
              <a:spcAft>
                <a:spcPts val="624"/>
              </a:spcAft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oftware reliabil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 algn="just"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ow likely is it that a software component will produce an incorrect output. Software failure is usually distinct from hardware failure in that software does not wear out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 algn="just">
              <a:spcBef>
                <a:spcPts val="601"/>
              </a:spcBef>
              <a:spcAft>
                <a:spcPts val="624"/>
              </a:spcAft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perator reliabil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 algn="just"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ow likely is it that the operator of a system will make an err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luences on rel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iability relationshi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 failure can generate spurious signals that are outside the range of inputs expected by the softw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errors can cause alarms to be activated which cause operator stress and lead to operator err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vironment in which a system is installed can affect its reli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‘shall-not’ proper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erties such as performance and reliability can be measu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some properties are properties that the system should not exhi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ty - the system should not behave in an unsafe wa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 - the system should not permit unauthorised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ing or assessing these properties is very ha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s enginee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ying, designing, implementing, validating, deploying and maintaining socio-technical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rned with the services provided by the system, constraints on its construction and operation and the ways in which it is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ystem engineering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follows a ‘waterfall’ model because of the need for parallel development of different parts of th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ttle scope for iteration between phases because hardware changes are very expensive. Software may have to compensate for hardware probl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evitably involves engineers from different disciplines who must work toge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ch scope for misunderstanding here. Different disciplines use a different vocabulary and much negotiation is required. Engineers may have personal agendas to fulf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1676520"/>
            <a:ext cx="876276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ystems engineering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80010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-disciplinary involv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676520"/>
            <a:ext cx="8381880" cy="4572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7238880" cy="38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requirements defin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types of requirement defined at this s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functional requirements. System functions are defined in an abstract wa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properties. Non-functional requirements for the system in general are defin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sirable characteristics. Unacceptable system behaviour is specif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also define overall organisational objectives for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define why a system is being procured for a particular enviro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al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rovide a fire and intruder alarm system for the building which will provide internal and external warning of fire or unauthorized intru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sational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nsure that the normal functioning of work carried out in the building is not seriously disrupted by events such as fire and unauthorized intru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xplain what a socio-technical system is and the distinction between this and a computer-based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introduce the concept of emergent system properties such as reliability and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xplain system engineering and system procurement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xplain why the organisational context of a system affects its design and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discuss legacy systems and why these are critical to many busin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requirements probl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9000"/>
          </a:bodyPr>
          <a:p>
            <a:pPr marL="483840" indent="-48384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x systems are usually developed to address wicked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 that are not fully understoo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ing as the system is being specif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anticipate hardware/communication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s over the lifetime of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 to define non-functional requirement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articularly) without knowing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 structure of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ystem design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tion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se requirements into related group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sub-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y a set of sub-systems which collectively can meet the system require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 requirements to sub-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uses particular problems when COTS are integr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y sub-system function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sub-system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itical activity for parallel sub-system develop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ystem design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676520"/>
            <a:ext cx="8458200" cy="4419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924680" cy="25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design probl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s partitioning to hardware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and human components may involve a lot of negoti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 design problems are often assumed to be readily solved using softw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 platforms may be inappropriate f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requirements so software must compensate for th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and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s engineering and system design are inextricably link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aints posed by the system’s environment and other systems limit design choices so the actual design to be used may be a requir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design may be necessary to structure the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you do design, you learn more about the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iral model of requirements/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647712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mod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rchitectural model presents an abstract view of the sub-systems making up a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include major information flows between sub-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presented as a block dia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identify different types of functional component in th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rglar alarm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676520"/>
            <a:ext cx="8534160" cy="449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8076960" cy="33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-system descrip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600200"/>
            <a:ext cx="8534160" cy="4191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62120" y="2286000"/>
          <a:ext cx="8839080" cy="30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883908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C system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523880"/>
            <a:ext cx="8762760" cy="4953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533412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ergent system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s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ations, people and computer syst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cy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-system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ly parallel projects developing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, software and communic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involve some COTS  (Commercial Off-the-Shelf) systems procur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communication across implementati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reaucratic and slow mechanism fo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osing system changes means that the development schedule may be extended because of the need for re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 of putting hardware, software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together to make a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be tackled incrementally so that sub-systems are integrated one at a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face problems between sub-systems are usually found at this 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problems with uncoordinated deliveri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system com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integ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completion, the system has to be installed in the customer’s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al assumptions may be incorrec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be human resistance to the int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ew syste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may have to coexist with alterna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s for some tim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be physical installation problems (e.g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bling problems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or training has to be identif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instal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ev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systems have a long lifetime. They must evolve to meet changing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tion is inherently cos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s must be analysed from a technical and business perspectiv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-systems interact so unanticipated problems can ari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rarely a rationale for original design decision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tructure is corrupted as changes are made to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ing systems which must be maintained are sometimes called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egacy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decommissio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ing the system out of service after its useful life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require removal of materials (e.g. dangerous chemicals) which pollute the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be planned for in the system design by encapsu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require data to be restructured and converted to be used in some other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ganisations/people/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o-technical systems are organisational systems intended to help deliver some organisational or business go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do not understand the organisational environment where a system is used, the system is less likely to meet the real needs of the business and its us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uman and organisational f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80680" y="1682640"/>
            <a:ext cx="886932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 algn="just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Process chang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 algn="just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es the system require changes to the work processes in the environment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 algn="just">
              <a:lnSpc>
                <a:spcPct val="90000"/>
              </a:lnSpc>
              <a:spcBef>
                <a:spcPts val="700"/>
              </a:spcBef>
              <a:spcAft>
                <a:spcPts val="624"/>
              </a:spcAft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Job chang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 algn="just">
              <a:lnSpc>
                <a:spcPct val="90000"/>
              </a:lnSpc>
              <a:spcBef>
                <a:spcPts val="601"/>
              </a:spcBef>
              <a:spcAft>
                <a:spcPts val="624"/>
              </a:spcAft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es the system de-skill the users in an environment or cause them to change the way they work?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 algn="just">
              <a:lnSpc>
                <a:spcPct val="90000"/>
              </a:lnSpc>
              <a:spcBef>
                <a:spcPts val="700"/>
              </a:spcBef>
              <a:spcAft>
                <a:spcPts val="624"/>
              </a:spcAft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Organisational chang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 algn="just">
              <a:lnSpc>
                <a:spcPct val="90000"/>
              </a:lnSpc>
              <a:spcBef>
                <a:spcPts val="601"/>
              </a:spcBef>
              <a:spcAft>
                <a:spcPts val="624"/>
              </a:spcAft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es the system change the political power structure in an organisation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ganisational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cesses of systems engineering overlap and interact with organisational procurement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onal processes are the processes involved in using the system for its intended purpose. For new systems, these have to be defined as part of the system de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onal processes should be designed to be flexible and should not force operations to be done in a particular way. It is important that human operators can use their initiative if problems ari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5040" y="306000"/>
            <a:ext cx="87994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urement/development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752480"/>
            <a:ext cx="8458200" cy="4343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640080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procur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7000"/>
          </a:bodyPr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quiring a system for an organization to meet some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 system specification and architectural design is usually necessary before proc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need a specification to let a contract for system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pecification may allow you to buy a commercial off-the-shelf (COTS) system. Almost always cheaper than developing a system from scra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complex systems usually consist of a mix of off the shelf and specially designed components. The procurement processes for these different types of component are usually differ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63480" y="1606320"/>
            <a:ext cx="8454960" cy="4128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urposeful collection of inter-related components working together to achieve some common objecti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may include software, mechanical, electrical and electronic hardware and be operated by peop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components are dependent on othe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perties and behaviour of system components are inextricably inter-ming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ystem procurement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752480"/>
            <a:ext cx="8763120" cy="4267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8382240" cy="28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urement iss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s may have to be modified to match the capabilities of off-the-shelf com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quirements specification may be part of the contract for the development of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usually a contract negotiation period to agree changes after the contractor to build a system has been sel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ractors and sub-contr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urement of large hardware/software systems is usually based around some principal contrac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-contracts are issued to other suppliers to supply parts of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 liases with the principal contractor and does not deal directly with sub-contrac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ractor/Sub-contractor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676520"/>
            <a:ext cx="9067680" cy="4572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8229600" cy="39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gacy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o-technical systems that have been developed using old or obsolete technolo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ucial to the operation of a business and it is often too risky to discard these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nk customer accounting syste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craft maintenance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gacy systems constrain new business processes and consume a high proportion of company budg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0">
              <a:spcBef>
                <a:spcPts val="601"/>
              </a:spcBef>
              <a:buNone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676520"/>
            <a:ext cx="8534520" cy="449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80010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gacy system compon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9000"/>
          </a:bodyPr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 - may be obsolete mainframe hardw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software - may rely on support software from suppliers who are no longer in busi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software - may be written in obsolete programming langu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data - often incomplete and inconsist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processes - may be constrained by software structure and function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policies and rules - may be implicit and embedded in the system softw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676520"/>
            <a:ext cx="8534520" cy="449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58676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81040" y="1606320"/>
            <a:ext cx="8454960" cy="4128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o-technical systems include computer hardware, software and people and are designed to meet some business go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t properties are properties that are characteristic of the system as a whole and not its component pa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s engineering process includes specification, design, development, integration and testing. System integration is particularly critic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and organisational factors have a significant effect on the operation of socio-technical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complex interactions between the processes of system procurement, development and ope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egacy system is an old system that continues to provide essential serv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gacy systems include business processes, application software, support software and system hardw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catego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computer-bas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s that include hardware and software but where the operators and operational processes are not normally considered to be part of the system. The system is not self-aw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o-technical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s that include technical systems but also operational processes and people who use and interact with the technical system. Socio-technical systems are governed by organisational policies and ru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63520"/>
            <a:ext cx="9181800" cy="1108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cio-technical system 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ergent prope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perties of the system of a whole that depend on the system components and their relationshi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n-determinis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do not always produce the same output when presented with the same input because the systems’s behaviour is partially dependent on human operato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lex relationships with organisational 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extent to which the system supports organisational objectives does not just depend on the system itse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ergent proper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erties of the system as a whole rather than properties that can be derived from the properties of components of a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ergent properties are a consequence of the relationships between system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can therefore only be assessed and measured once the components have been integrated into a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es of emergent proper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676520"/>
            <a:ext cx="8534520" cy="449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90720" y="1828800"/>
          <a:ext cx="8229600" cy="40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822960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5400" y="306000"/>
            <a:ext cx="845496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ypes of emergent proper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73160" y="1676520"/>
            <a:ext cx="845496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 algn="just"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ctional proper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 algn="just"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se appear when all the parts of a system work together to achieve some objective. For example, a bicycle has the functional property of being a transportation device once it has been assembled from its compon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 algn="just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functional emergent prope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s are reliability, performance, safety, and security. These relate to the behaviour of the system in its operational environment. They are often critical for computer-based systems as failure to achieve some minimal defined level in these properties may make the system unus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21T10:58:14Z</dcterms:created>
  <dc:creator/>
  <dc:description/>
  <dc:language>en-US</dc:language>
  <cp:lastModifiedBy>Ian Sommerville</cp:lastModifiedBy>
  <cp:lastPrinted>2004-04-23T15:43:23Z</cp:lastPrinted>
  <dcterms:modified xsi:type="dcterms:W3CDTF">2004-04-23T15:43:29Z</dcterms:modified>
  <cp:revision>31</cp:revision>
  <dc:subject/>
  <dc:title>Systems Engineering</dc:title>
</cp:coreProperties>
</file>