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10.png" ContentType="image/png"/>
  <Override PartName="/ppt/media/image3.pct" ContentType="image/x-pict"/>
  <Override PartName="/ppt/media/image6.png" ContentType="image/png"/>
  <Override PartName="/ppt/media/image5.pct" ContentType="image/x-pict"/>
  <Override PartName="/ppt/media/image8.png" ContentType="image/png"/>
  <Override PartName="/ppt/media/image7.png" ContentType="image/png"/>
  <Override PartName="/ppt/media/image9.png" ContentType="image/png"/>
  <Override PartName="/ppt/media/image11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2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9CBEEC68-93B8-4A47-9E00-76EA10722EC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ification and Valid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veal the presence of errors NOT thei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validation technique for non-functional requirements as the software has to be executed to see how it beha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used in conjunction with stat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to provide full V&amp;V cove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gram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Defect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 designed to discover system def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ccessful defect test is one which reveals the presence of defects in a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ed in Chapter 23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Validatio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ded to show  that the software meets its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ccessful test is one that shows that a requirements has been properly implemen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ct testing and debugging are distin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tion and validation is concerned with establishing the existence of defects in a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ugging is concerned with locating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iring these err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ugging involves formulating a hypothes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program behaviour then testing the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es to find the system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and debugg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ebugg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905120"/>
            <a:ext cx="8458200" cy="4038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23888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ful planning is required to get the most out of testing and inspectio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should start early in the development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an should identify the balance between static verification and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planning is about defining standards for the testing process rather than describing product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 &amp; V plan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-model of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752480"/>
            <a:ext cx="8458200" cy="426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001000" cy="28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ucture of a software test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st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trace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d i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 sched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ecording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and softwar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ftware test 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600200"/>
            <a:ext cx="53341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81080" y="1676520"/>
          <a:ext cx="4496040" cy="43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449604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inspe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involve people examining the source representation with the aim of discovering anomalies and de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s not require execution of a system so may be used before imple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may be applied to any representation of the system (requirements, design,configuration data, test data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been shown to be an effective technique for discovering program err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ion su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ifferent defects may be discovered in a single inspection. In testing, one defect ,may mask another so several executions are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use domain and programming knowledge so reviewers are likely to have seen the types of error that commonly ar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ntroduce software verification and validation and to discuss the distinction betwee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escribe the program inspection process and its role in V &amp;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xplain static analysis as a verification tech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escribe the Cleanroom software developmen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ions and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s and testing are complementary and not opposing verification techniq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should be used during the V &amp; V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s can check conformance with a specification but not conformance with the customer’s real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s cannot check non-functional characteristics such as performance, usability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gram inspe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ised approach to document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ded explicitly for defect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dete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not corre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cts may be logical errors, anomalies in the code that might indicate an erroneous condition (e.g. an uninitialised variable) or non-compliance with stand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ion pre-con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804080" cy="4429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ecise specification must be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members must be familiar with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ation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actically correct code or other system representations must be avail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rror checklist should be prepa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must accept that inspection wi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costs early in the software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should not use inspections for staf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aisal ie finding out who makes mista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spect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209680"/>
            <a:ext cx="8458200" cy="3353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07732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ion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overview presented to inspection t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and associated documents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to inspection team in adv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ection takes place and discovered erro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no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ications are made to repair discover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inspection may or may not be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ion ro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90720" y="1676520"/>
          <a:ext cx="7162560" cy="44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16256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ion checkl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list of common errors should be used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 the insp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checklists are programming languag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and reflect the characteristic errors that are likely to arise in the langu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general, the 'weaker' the type checking, the larger the checkl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Initialisation, Constant naming, lo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mination, array boun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ion check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1676520"/>
          <a:ext cx="6858000" cy="43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68580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ion check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1828800"/>
          <a:ext cx="777240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7724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ion 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0 statements/hour during over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5 source statement/hour during individu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0-125 statements/hour can be insp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ection is therefore an expensiv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ecting 500 lines costs about 40 man/hours effort - about £2800 at UK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and validation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insp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static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room softwar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omated static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analysers are software tools for source text proces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parse the program text and try to discover potentially erroneous conditions and bring these to the attention of the V &amp; V t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very effective as an aid to inspections - they are a supplement to but not a replacement for insp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c analysis che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76520"/>
            <a:ext cx="74674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19320" y="1676520"/>
          <a:ext cx="6476760" cy="452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476760" cy="45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ges of static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trol flow analysi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hecks for loops w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exit or entry points, finds unreachabl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Data use analysi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Detects uninitialis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s, variables written twice without 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ing assignment, variables which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ared but never used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terface analysi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hecks the consistency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ine and procedure declarations an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ges of static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659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Information flow analysi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dentifies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cies of output variables. Does no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 anomalies itself but highligh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for code inspection o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Path analysi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dentifies paths through the program and sets out the statements executed in that path. Again, potentially useful in the review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these stages generate vast amounts of information. They must be used with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T static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676520"/>
            <a:ext cx="68580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76520" y="1752480"/>
          <a:ext cx="464796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464796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of static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ly valuable when a language such as C is used which has weak typing and hence many errors are undetected by the compil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st-effective for languages like Java that have strong type checking and can therefore detect many errors during compi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ification and form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methods can be used when a mathematical specification of the system is pro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the ultimate static verification techn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involve detailed mathematical analysis of the specification and may develop formal arguments that a program conforms to its mathematical spec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guments for form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ing a mathematical specification requires a detailed analysis of the requirements and this is likely to uncover 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n detect implementation errors before testing when the program is analysed alongside the spec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guments against formal 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specialised notations that cannot be understood by domain expe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expensive to develop a specification and even more expensive to show that a program meets that spec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ay be possible to reach the same level of confidence in a program more cheaply using other V &amp; V techn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is derived from the 'Cleanroom'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in semiconductor fabrication.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ilosophy is defect avoidance rather th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ct remov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oftware development process is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 develop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 specif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c verification using correctness argu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 testing to determine program reli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eanroom softwar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Verifi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Are we building the product right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ftware should conform to its spec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Valid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"Are we building the right product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ftware should do what the user really requi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ification vs valid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leanroom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05740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7724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eanroom process character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6000"/>
          </a:bodyPr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specification using a state transition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mental development where the customer prioritises inc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d programming - limited control and abstraction constructs are used in the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verification using rigorous insp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testing of the system (covered in Ch. 2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al specification and inspe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te based model is a system specification and the inspection process checks the program against this mode.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ramming approach is defined so that the correspondence between the model and the system is cl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ematical arguments (not proofs) are used to increase confidence in the inspectio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pecification te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Responsible for develop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aintaining the system spec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Development te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Responsible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and verifying the software. 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is NOT executed or even compil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is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ertification te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Responsible for develop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t of statistical tests to exercise the softw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development. Reliability growth model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determine when reliability is accep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eanroom process te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6000"/>
          </a:bodyPr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ults of using the Cleanroom process have been very impressive with few discovered faults in delivered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assessment shows that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is no more expensive than oth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ac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ere fewer errors than in a 'traditional' development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the process is not widely used. It is not clear how this approach can be transfer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n environment with less skilled or les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vated software engin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eanroom process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and validation are not the same thing. Verification shows conformance with specification; validation shows that the program meets the customer’s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plans should be drawn up to guide the test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verification techniques involve examination and analysis of the program for error det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inspections are very effective in discovering err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ode in inspections is systematically checked by a small team to locate software fa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 analysis tools can discover program anomalies which may be an indication of faults in the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eanroom development process depends on incremental development, static verification and statistical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whole life-cycle process - V &amp; V must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ed at each stage in the softwar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two principal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scovery of defects in a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ssessment of whether or not the system is useful and useable in an operational sit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 &amp; V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&amp; V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and validation should establish confidence that the software is fit for purp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oes NOT mean completely free of def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, it must be good enough for its intended use and the type of use will determine the degree of confidence that i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 &amp; V 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on system’s purpose, user expectations and marketing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oftwar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evel of confidence depends on how critical the software is to an organis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ser expec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s may have low expectations of certain kinds of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arket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ting a product to market early may be more important than finding defects in the progr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2960" y="1982520"/>
            <a:ext cx="780552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oftware inspection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ncerned with analysis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tic system representation to discover problem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 verifi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supplement by tool-based document and code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oftware tes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ncerned with exercising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ing product behaviour (dynamic verifi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is executed with test data and its operational behaviour is obser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499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c and dynamic ver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ic and dynamic V&amp;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20120" cy="31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9T20:02:19Z</dcterms:created>
  <dc:creator/>
  <dc:description/>
  <dc:language>en-US</dc:language>
  <cp:lastModifiedBy>Ian Sommerville</cp:lastModifiedBy>
  <cp:lastPrinted>2004-05-31T21:35:11Z</cp:lastPrinted>
  <dcterms:modified xsi:type="dcterms:W3CDTF">2004-05-31T21:36:05Z</dcterms:modified>
  <cp:revision>24</cp:revision>
  <dc:subject/>
  <dc:title>Verification and Validation</dc:title>
</cp:coreProperties>
</file>