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1.pct" ContentType="image/x-pict"/>
  <Override PartName="/ppt/media/image4.png" ContentType="image/png"/>
  <Override PartName="/ppt/media/image2.pct" ContentType="image/x-pict"/>
  <Override PartName="/ppt/media/image3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0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A51E381B-ED99-410C-B043-E3E5BED9124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of formal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specification involves investing more effort in the early phases of software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duces requirements errors as it forces a detailed analysis of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pleteness and inconsistencies can be discovered and res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ce, savings as made as the amount of rework due to requirements problems is reduc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 prof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formal specification means that the cost profile of a project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greater up front costs as more time and effort are spent developing the specific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implementation and validation costs should be reduced as the specification process reduces errors and ambiguities in the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03592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costs with formal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62940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techn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c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is specified in terms of its operations and their relation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-based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is specified in terms of a state model that is constructed using mathematical constructs such as sets and sequences. Operations are defined by modifications to the system’s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 specification langu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2286000"/>
          <a:ext cx="7696080" cy="32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76960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systems are decomposed into subsystems with well-defined interfaces between these sub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tion of subsystem interfaces allows independent development of the different sub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s may be defined as abstract data types or object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lgebraic approach to formal specification is particularly well-suited to interface specification as it is focused on the defined operations in an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-system interfa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752480"/>
            <a:ext cx="8458200" cy="419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3915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834228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of an algebraic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31520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s the sort (the type name) and declares other specifications that are u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lly describes the operations on the ty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s the syntax of the operations in the interface and their para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s the operation semantics by defining axioms which characterise behavio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82472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atic algebraic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c specifications of a system may be developed in a systematic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tion structuring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tion nam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 selectio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l operation specific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ax defini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om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why formal specification techniques help discover problems in system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the use of algebraic techniques for interface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the use of model-based techniques for behavioural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Constructor oper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Operations which create entities of the type being spec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Inspection oper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Operations which evaluate entities of the type being spec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pecify behaviour, define the inspector operations for each constructor op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rations on a list AD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9000"/>
          </a:bodyPr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or operations which evaluate to sort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, Cons and T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ection operations which take sort list as a parameter and return some other s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 and Leng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l can be defined using the simpl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ors Create and Cons. No need to define Head and Length with T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st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1600200"/>
            <a:ext cx="62485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0292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ursion in specif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s are often specified recursiv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l (Cons (L, v))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 = Cre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 (Tail (L), v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([5, 7], 9) = [5, 7, 9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il ([5, 7, 9])  =  Tail (Cons ( [5, 7], 9)) 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(Tail ([5, 7]), 9) = Cons (Tail (Cons ([5], 7)), 9)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(Cons (Tail ([5]), 7), 9)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(Cons (Tail (Cons ([], 5)), 7), 9)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(Cons ([Create], 7), 9) = Cons ([7], 9) =  [7, 9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specification in critical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n air traffic control system where aircraft fly through managed sectors of airsp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ector may include a number of aircraft but, for safety reasons, these must be separ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example, a simple vertical separation of 300m is propo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should warn the controller if aircraft are instructed to move so that the separation rule is breac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ector ob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operations on an object representing a controlled sector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dd an aircraft to the controlled airspa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e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Remove an aircraft from the controlled airspa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o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Move an aircraft from one height to anoth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ok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Given an aircraft identifier, return its current heigh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itive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ometimes necessary to introduce additional operations to simplify the spec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operations can then be defined using these more primitive oper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. Bring an instance of a sector into existen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t. Add an aircraft without safety check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space. Determine if a given aircraft is in the secto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ied. Given a height, determine if there is an aircraft within 300m of that he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tor specification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929047"/>
          <a:stretch/>
        </p:blipFill>
        <p:spPr>
          <a:xfrm>
            <a:off x="1295280" y="1752480"/>
            <a:ext cx="632484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tor specification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600200"/>
            <a:ext cx="65530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1576275" r="0" b="0"/>
          <a:stretch/>
        </p:blipFill>
        <p:spPr>
          <a:xfrm>
            <a:off x="1828800" y="1676520"/>
            <a:ext cx="55627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comment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basic constructor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specify other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ccup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-sp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use them to make checks in other operation defin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perations that result in changes to the sector must check that the safety criterion hol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specification in the softwar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system interface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ural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havioural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ic specification can be cumbersome when the object operations are not independent of the object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-based specification exposes the system state and defines the operations in terms of changes to that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Z notation is a mature technique for model-based specification. It combines formal and informal description and uses graphical highlighting when presenting specif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ructure of a Z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6960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ling the insulin pum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Z schema for the insulin pump declares a number of state variables inclu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put variables such as switch? (the device switch), InsulinReservoir? (the current quantity of insulin in the reservoir) and Reading? (the reading from the sensor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tput variables such as alarm! (a system alarm), display1!, display2! (the displays on the pump) and dose! (the dose of insulin to be deliver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hema invari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Z schema has an invariant part which defines conditions that are always tr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insulin pump schema it is always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ose must be less than or equal to the capacity of the insulin reservoi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ingle dose may be more than 4 units of insulin and the total dose delivered in a time period must not exceed 25 units of insulin. This is a safety constraint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2! shows the amount of insulin to be deliver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ulin pump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523880"/>
            <a:ext cx="84582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676520"/>
          <a:ext cx="7010280" cy="45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01028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e invari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752480"/>
          <a:ext cx="8915400" cy="41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915400" cy="41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sage com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ulin pump computes the amount of insulin required by comparing the current reading with two previous read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se suggest that blood glucose is rising then insulin is deliv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about the total dose delivered is maintained to allow the safety check invariant to be a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hat this invariant always applies - there is no need to repeat it in the dosage compu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N schema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1752480"/>
          <a:ext cx="723888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23888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N schema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828800"/>
            <a:ext cx="84582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3520" y="2133720"/>
          <a:ext cx="7924680" cy="369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79246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gar OK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1905120"/>
          <a:ext cx="8001000" cy="38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800100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specification is part of a more general collection of techniques that are known as ‘formal methods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based on mathematical representation and analysis of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methods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l specific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ation analysis and proof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formational developm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 verif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system specification complements informal specification techniq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specifications are precise and unambiguous. They remove areas of doubt in a spec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specification forces an analysis of the system requirements at an early stage. Correcting errors at this stage is cheaper than modifying a delivered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specification techniques are most applicable in the development of critical systems and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c techniques are suited to interface specification where the interface is defined as a set of object 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-based techniques model the system using sets and functions. This simplifies some types of behavioural spec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 are defined in a model-based spec. by defining pre and post conditions on the system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ance of formal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methods have not become mainstream software development techniques as was once predi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software engineering techniques have been successful at increasing system quality. Hence the need for formal methods has been reduc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changes have made time-to-market rather than software with a low error count the key factor. Formal methods do not reduce time to marke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cope of formal methods is limited. They are not well-suited to specifying and analysing user interfaces and user interac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l methods are still hard to scale up to large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of formal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ncipal benefits of formal methods are in reducing the number of faults in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tly, their main area of applicability is in critical systems engineering. There have been several successful projects where formal methods have been used in this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area, the use of formal methods is most likely to be cost-effective because high system failure costs must be avoid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55216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in the software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ation and design are inextricab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ing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design is essential to structure a specification and the specificatio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specifications are expressed in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ematical notation with precisely defin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, syntax and seman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81080"/>
            <a:ext cx="845820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800100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4758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fication in the software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315200" cy="24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2T13:55:34Z</dcterms:created>
  <dc:creator/>
  <dc:description/>
  <dc:language>en-US</dc:language>
  <cp:lastModifiedBy>Ian Sommerville</cp:lastModifiedBy>
  <cp:lastPrinted>2000-08-04T11:54:54Z</cp:lastPrinted>
  <dcterms:modified xsi:type="dcterms:W3CDTF">2004-05-04T21:03:35Z</dcterms:modified>
  <cp:revision>35</cp:revision>
  <dc:subject/>
  <dc:title>Formal Specification</dc:title>
</cp:coreProperties>
</file>