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04313" cy="68326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67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66920"/>
            <a:ext cx="908028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0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28600">
              <a:spcBef>
                <a:spcPts val="675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6640" y="6499080"/>
            <a:ext cx="812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ftware Engineering, 7th edition. Chapter 4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D4C11A65-5797-445F-B211-C11F38CF29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Process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86868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752480"/>
            <a:ext cx="7696080" cy="4496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93432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516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ck of process visibilit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ystems are often poorly structur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pecial skills (e.g. in languages for rapid prototyping) may be requir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licabi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or small or medium-size interactive system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or parts of large systems (e.g. the user interface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or short-lifetime system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-based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ased on systematic reuse where systems are integrated from existing components or COTS (Commercial-off-the-shelf)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 st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ponent analysi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quirements modif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ystem design with reuse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velopment and integr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s approach is becoming increasingly used as component standards have emerg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-oriented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133720"/>
            <a:ext cx="7391160" cy="2743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70866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cess ite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 requirements ALWAYS evolve in the course of a project so process iteration where earlier stages are reworked is always part of the process for large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teration can be applied to any of the generic process mode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wo (related) approach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cremental deliver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piral develop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cremental deliver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ather than deliver the system as a single delivery, the development and delivery is broken down into increments with each increment delivering part of the required function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r requirements are prioritised and the highest priority requirements are included in early incremen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nce the development of an increment is started, the requirements are frozen though requirements for later increments can continue to evolv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cremental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362320"/>
            <a:ext cx="7848360" cy="289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6964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cremental development advanta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stomer value can be delivered with each increment so system functionality is available earli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rly increments act as a prototype to help elicit requirements for later inc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er risk of overall project failu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highest priority system services tend to receive the most tes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treme programm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 approach to development based on the development and delivery of very small increments of functional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lies on constant code improvement, user involvement in the development team and pairwise programm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vered in Chapter 17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piral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 is represented as a spiral rather than as a sequence of activities with backtrack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loop in the spiral represents a phase in the proces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 fixed phases such as specification or design - loops in the spiral are chosen depending on what is requir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sks are explicitly assessed and resolved throughout the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introduce software process mode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describe three generic process models and when they may be us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describe outline process models for requirements engineering, software development, testing and evolu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explain the Rational Unified Process mod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introduce CASE technology to support software process activ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440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piral model of the software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00200"/>
            <a:ext cx="82296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6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piral model sec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bjective set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pecific objectives for the phase are identifi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isk assessment and reduc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isks are assessed and activities put in place to reduce the key risk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velopment and valid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development model for the system is chosen  which can be any of the generic model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project is reviewed and the next phase of the spiral is plann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cess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spec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design and implem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valid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evolu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ftware spec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process of establishing what services are required and the constraints on the system’s operation and develop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quirements engineering proc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easibility stud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quirements elicitation and analysi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quirements specif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quirements valid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3836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requirements engineering proc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ftware design and implement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process of converting the system specification into an executable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sign a software structure that realises the specif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ranslate this structure into an executable program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activities of design and implementation are closely related and may be inter-leav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sign process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chitectural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stract spec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onent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structur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gorithm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software design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981080"/>
            <a:ext cx="853452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3055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ructured metho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atic approaches to developing a software desig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sign is usually documented as a set of graphical mode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sible mode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bject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quence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tate transition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tructural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ata-flow mode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gramming and debugg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lating a design into a program and removing errors from that progra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gramming is a personal activity - there is no generic programming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grammers carry out some program testing to discover faults in the program and remove these faults in the debugging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process mode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 ite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 activ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Rational Unified Proc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uter-aided software enginee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debugg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286000"/>
            <a:ext cx="8001000" cy="2590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ftware valid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erification and validation (V &amp; V) is intended to show that a system conforms to its specification and meets the requirements of the system custom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volves checking and review processes and system tes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 testing involves executing the system with test cases that are derived from the specification of the real data to be processed by the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test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286000"/>
            <a:ext cx="7925040" cy="2666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1717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29200" y="426708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esting sta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onent or unit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dividual components are tested independently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ponents may be functions or objects or coherent groupings of these ent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sting of the system as a whole. Testing of emergent properties is particularly importa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ceptance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sting with customer data to check that the system meets the customer’s need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esting ph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13372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229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ftware 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is inherently flexible and can chang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requirements change through changing business circumstances, the software that supports the business must also evolve and chang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though there has been a demarcation between development and evolution (maintenance) this is increasingly irrelevant as fewer and fewer systems are completely new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ystem 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209680"/>
            <a:ext cx="8229600" cy="3505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924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Rational Unified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modern process model derived from the work on the UML and associated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rmally described from 3 perspecti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dynamic perspective that shows phases over time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static perspective that shows process activitie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practive perspective that suggests good practi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UP phase 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438280"/>
            <a:ext cx="8077320" cy="25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4674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UP ph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ep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stablish the business case for the 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abo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velop an understanding of the problem domain and the system architectu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stru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ystem design, programming and test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ploy the system in its operating environ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software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structured set of activities required to develop a 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ftware 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pecificatio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sig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Validatio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volutio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software process model is an abstract representation of a process. It presents a description of a process from some particular perspectiv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UP good practi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velop software iterativel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age require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 component-based architec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sually model sof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erify software qua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trol changes to sof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tic workflow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523880"/>
            <a:ext cx="74674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1676520"/>
          <a:ext cx="617220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1722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uter-aided software engineer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puter-aided software engineering (CASE) is software to support software development and evolution proces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ctivity autom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Graphical editors for system model developmen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ta dictionary to manage design entitie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Graphical UI builder for user interface constructio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buggers to support program fault finding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utomated translators to generate new versions of a program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ase technolog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se technology has led to significant improvements in the software process. However, these are not the order of magnitude improvements that were once predic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ftware engineering requires creative thought - this is not readily automat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ftware engineering is a team activity and, for large projects, much time is spent in team interactions. CASE technology does not really support the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ASE class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lassification helps us understand the different types of CASE tools and their support for process activ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unctional perspec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ols are classified according to their specific functio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ocess perspec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ols are classified according to process activities that are support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tegration perspec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ols are classified according to their organisation into integrated units.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unctional tool class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600200"/>
            <a:ext cx="83059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5800" y="1752480"/>
          <a:ext cx="762012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2012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ctivity-based tool class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447920"/>
            <a:ext cx="8001000" cy="4952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95288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ASE integ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upport individual process tasks such as design consistency checking, text editing, et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rkbench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upport a process phase such as specification or design, Normally include a number of integrated tool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viron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upport all or a substantial part of an entire software process. Normally include several integrated workbench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080" y="261720"/>
            <a:ext cx="8364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ols, workbenches, environ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523880"/>
            <a:ext cx="82296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5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ftware processes are the activities involved in producing and evolving a software system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ftware process models are abstract representations of these proces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General activities are specification, design and implementation, validation and evolu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Generic process models describe the organisation of software processes. Examples include the waterfall model, evolutionary development and component-based software engineer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erative process models describe the software process as a cycle of activ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516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eneric software process mode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 waterfall mod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eparate and distinct phases of specification and develop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pecification, development and validation are interleav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mponent-based software engineer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system is assembled from existing compone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 are many variants of these models e.g. formal development where a waterfall-like process is used but the specification is a formal specification that is refined through several stages to an implementable desig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quirements engineering is the process of developing a software specific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sign and implementation processes transform the specification to an executable progra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Validation involves checking that the system meets to its specification and user need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volution is concerned with modifying the system after it is in u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Rational Unified Process is a generic process model that separates activities from pha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ASE technology supports software process activ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aterfall 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1752480"/>
            <a:ext cx="693432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1933560"/>
            <a:ext cx="6400800" cy="39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aterfall model ph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quirements analysis and defini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 and softwar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lementation and unit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egration and system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peration and maintena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main drawback of the waterfall model is the difficulty of accommodating change after the process is underway. One phase has to be complete before moving onto the next ph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aterfall model probl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flexible partitioning of the project into distinct stages makes it difficult to respond to changing customer requiremen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refore, this model is only appropriate when the requirements are well-understood and changes will be fairly limited during the design proces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ew business systems have stable requiremen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waterfall model is mostly used for large systems engineering projects where a system is developed at several site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loratory developmen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bjective is to work with customers and to evolve a final system from an initial outline specification. Should start with well-understood requirements and add new features as proposed by the custom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row-away prototyp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bjective is to understand the system requirements. Should start with poorly understood requirements to clarify what is really need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08:06:41Z</dcterms:created>
  <dc:creator>Ian Sommerville</dc:creator>
  <dc:description/>
  <dc:language>en-US</dc:language>
  <cp:lastModifiedBy>Ian Sommerville</cp:lastModifiedBy>
  <cp:lastPrinted>2004-04-23T15:45:57Z</cp:lastPrinted>
  <dcterms:modified xsi:type="dcterms:W3CDTF">2004-04-23T15:47:14Z</dcterms:modified>
  <cp:revision>24</cp:revision>
  <dc:subject/>
  <dc:title>Software Processes </dc:title>
</cp:coreProperties>
</file>