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media/image2.pct" ContentType="image/x-pict"/>
  <Override PartName="/ppt/media/image3.png" ContentType="image/png"/>
  <Override PartName="/ppt/media/image4.png" ContentType="image/png"/>
  <Override PartName="/ppt/media/image5.pct" ContentType="image/x-pict"/>
  <Override PartName="/ppt/media/image8.png" ContentType="image/png"/>
  <Override PartName="/ppt/media/image10.pct" ContentType="image/x-pict"/>
  <Override PartName="/ppt/media/image6.png" ContentType="image/png"/>
  <Override PartName="/ppt/media/image7.png" ContentType="image/png"/>
  <Override PartName="/ppt/media/image9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25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6A157367-EEF8-4F3A-94A2-2B327702681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aging peo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2960" y="2135160"/>
            <a:ext cx="780552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11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ing people working as individuals and in grou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ff selection factors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8080" y="1981080"/>
          <a:ext cx="7391520" cy="420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39152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ff selection factors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7524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14400" y="1981080"/>
          <a:ext cx="6705720" cy="43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670572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ivating peo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important role of a manager is to motivate the people working on a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tivation is a complex issue but it appears that their are different types of motivation based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sic needs (e.g. food, sleep, etc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sonal needs (e.g. respect, self-estee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cial needs (e.g. to be accepted as part of a group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man needs hierarc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639040" cy="36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ed satisf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communal faciliti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informal commun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tion of achieveme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priate rew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re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- people want to learn mor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ibi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ividual motiv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143000" y="1676520"/>
          <a:ext cx="6400800" cy="46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40080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sonality typ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eds hierarchy is almost certainly an over-simplification of motivation in pract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 should also take into account different personality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-orient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-orient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on-ori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sonality typ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-orient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otivation for doing the work is the work itself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-orien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ork is a means to an end which is the achievement of individual goals - e.g. to get rich, to play tennis, to travel etc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on-orie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incipal motivation is the presence and actions of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-workers. People go to work because they like to go t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ivation bal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motivations are made up of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each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alance can change depending on persona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mstances and external ev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people are not just motivated by personal factors but also by being part of a group and cult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go to work because they are motivated by the people that they work wi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aging grou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st software engineering is a group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evelopment schedule for most non-trivial software projects is such that they cannot be completed by one person working al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 interaction is a key determinant of group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lexibility in group composition is 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rs must do the best they can with available peop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xplain some of the issues involved in selecting and retaining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escribe factors that influence individual moti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iscuss key issues of team working including composition, cohesiveness and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ntroduce the people capability maturity model (P-CMM) - a framework for enhancing the capabilities of people in an organ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ctors influencing group wor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compo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cohesive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commun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organis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 compos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50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composed of members who sh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motivation can be problema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sk-oriented - everyone wants to do their own thing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-oriented - everyone wants to be the bos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on-oriented - too much chatting, not enough wo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ffective group has a balance of all ty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an be difficult to achieve software engineers are often task-ori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on-oriented people are very important as they can detect and defuse tensions that ar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 compos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905120"/>
          <a:ext cx="7772400" cy="436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77240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hip depends on respect not titula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may be both a technical and 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ive lea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ic leadership is more effective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cratic leader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 leadersh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 cohesiv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4000"/>
          </a:bodyPr>
          <a:p>
            <a:pPr marL="459360" indent="-459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cohesive group, members consider the group to be more important than any individual i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dvantages of a cohesive group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quality standards can be develop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members work closely together so inhibitions caused by ignorance are reduc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 members  learn from each other and get to know each other’s wor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less programming where members strive to improve each other’s programs can be practi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m spir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1752480"/>
          <a:ext cx="7315200" cy="463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31520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veloping cohesiv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hesiveness is influenced by factors such as the organisational culture and the personalities in the gro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hesiveness can be encouraged thr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ev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ing a group identity and territor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icit team-building activ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ness with information is a simple way of ensuring all group members feel part of the gro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members tend to be loyal to cohesive gro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'Groupthink' is preservation of group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espective of technical or organization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should act positively to avoi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think by forcing external involvement with each gro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 loyal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 commun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communications are essential for effective group wor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must be exchanged on the status of work, design decisions and changes to previous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communications also strengthens group cohesion as it promotes underst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4000"/>
          </a:bodyPr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arger the group, the harder it is for people to communicate with other group me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ion is better in informally structured groups than in hierarchically structured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com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ion is better when there are different personality types in a group and when groups are mixed rather than single se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hysical work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workplace organisation can help encourage commun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380880" y="263520"/>
            <a:ext cx="839952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 commun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ng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ng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ing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ople capability maturit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 organis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software engineering groups are usually organised informally without a rigid stru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large projects, there may be a hierarchical structure where different groups are responsible for different sub-pro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l grou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roup acts as a whole and comes to a consensus on decisions affecting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roup leader serves as the external interface of the group but does not allocate specific work i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work is discussed by the group as a whole and tasks are allocated according to ability and exper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approach is successful for groups where all members are experienced and compe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eme programming grou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 programming groups are variants of an informal, democratic organis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extreme programming groups, some ‘management’ decisions are devolved to group me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mers work in pairs and take a collective responsibility for code that is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ef programmer te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 of a kernel of specialists helped by others added to the project as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tivation behind their development is the wide difference in ability in different programm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ef programmer teams provide a supporting environment for very able programmers to be responsible for most of the system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ble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hief programmer approach, in different forms, has been successful in some sett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it suffers from a number of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lented designers and programmers are hard to find. Without exceptional people in these roles, the approach will fai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group members may resent the chief programmer taking the credit for success so may deliberately undermine his/her ro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a high project risk as the project will fail if both the chief and deputy programmer are unavail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rganisational structures and grades in a company may be unable to accommodate this type of gro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hysical workplace provision has an importa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 on individual productivity and satisf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for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c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and safety considerations must be tak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ing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ing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rni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king environ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cy - each engineer requires an area f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terrupted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side awareness - people prefer to work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l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ization - individuals adopt differe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practices and like to organize thei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 in different w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vironmental 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kspace organis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paces should provide private spaces where people can work without interru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ing individual offices for staff has been shown to increase producti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eams working together also require spaces where formal and informal meetings can be h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fic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Capability Maturity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ded as a framework for managing the development of people involved in software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in the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an organisation’s most important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asks of a manager are essentially people-oriented. Unless there is some understanding of people, management will be unsuccess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people management is an important contributor to project fail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CMM 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mprove organisational capability by improving workforce cap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nsure that software development capability is not reliant on a small number of individu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lign the motivation of individuals with that of the organis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retain people with critical knowledge and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CMM lev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ve stage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itial. Ad-hoc people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peatable. Policies developed for capability impro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ined. Standardised people management across the organis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aged. Quantitative goals for people management in pl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ptimizing. Continuous focus on improving individual competence and workforce mot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499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ople capability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676520"/>
            <a:ext cx="68580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0292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ff selection factors include education, domain experience, adaptability and persona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motivated by interaction, recognition and personal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development groups should be small and cohesive. Leaders should be competent and should have administrative and technical sup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communications are affected by status, group size, group organisation and the gender and personality composition of the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environments should include spaces for interaction and spaces for private wor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ople Capability Maturity Model is a framework for improving the capabilities of staff in an organis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management 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members should all be treated in a comparable way without favourites or discrimin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team members have different skills and these differences should be respec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olve all team members and make sure that people’s views are conside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should always be honest about what is going well and what is going badly in a pro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lecting staf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mportant project management task is team sel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on selection comes fro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provided by the candid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gained by interviewing and talking with candid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and comments from other people who know or who have worked with the candid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ff selection case study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3520" y="1905120"/>
          <a:ext cx="8001000" cy="359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00100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ff selection case study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676520"/>
          <a:ext cx="7772400" cy="43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rs in a company may not wish to lose people to a new project. Part-time involvement may be inevi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s such as UI design and hardware interfacing are in short sup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 graduates may not have specific skills but may be a way of introducing new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proficiency may be less important than social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4T08:57:14Z</dcterms:created>
  <dc:creator/>
  <dc:description/>
  <dc:language>en-US</dc:language>
  <cp:lastModifiedBy>Ian Sommerville</cp:lastModifiedBy>
  <cp:lastPrinted>2004-06-15T20:51:16Z</cp:lastPrinted>
  <dcterms:modified xsi:type="dcterms:W3CDTF">2004-06-15T20:51:24Z</dcterms:modified>
  <cp:revision>28</cp:revision>
  <dc:subject/>
  <dc:title>Managing people</dc:title>
</cp:coreProperties>
</file>