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04313" cy="68326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5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14CBA3B2-D7B7-4969-9563-61C2B00CB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267080"/>
            <a:ext cx="91058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pes of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057400"/>
          <a:ext cx="8991720" cy="35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99172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ct plann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project constra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itial assessments of the project paramet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project milestone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project has not been completed or cancelled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up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activities according to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( for a while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ject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estimates of project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egotiate project constraint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problems arise )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echnical review and possible re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ject plan sets ou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esources available to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work breakdow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chedule for the wor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ct plan stru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organis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analys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rdware and software resource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 breakdo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nitoring and reporting mechanis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 organiz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ities in a project should be organised to produce tangible outputs for management to judge progr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Mileston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re the end-point of a process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Deliverab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re project results delivered to custom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waterfall process allows for the straightforward definition of progress mileston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09680"/>
            <a:ext cx="8610480" cy="29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ilestones in the 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ct schedul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plit project into tasks and estimate time and resources required to complete each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ze tasks concurrently to make optimal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of workfor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 task dependencies to avoid delay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used by one task waiting for another to complet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pendent on project managers intuition and experien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2438280"/>
            <a:ext cx="86868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roject schedul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cheduling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ing the difficulty of problems and hence the cost of developing a solution is har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ductivity is not proportional to the number of people working on a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ng people to a late project makes it later because of communication overhead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unexpected always happens. Always allow contingency in plann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ar charts and activity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phical notations used to illustrate the 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w project breakdown into tasks. Tasks should not be too small. They should take about a week or tw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ity charts show task dependencies and the the critical pat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r charts show schedule against calendar ti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explain the main tasks undertaken by project manag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introduce software project management and to describe its distinctive characteristi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discuss project planning and the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show how graphical schedule representations are used by project manag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discuss the notion of risks and the risk management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600200"/>
            <a:ext cx="624816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ask durations and dependenc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752480"/>
          <a:ext cx="9601200" cy="44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6012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447920"/>
            <a:ext cx="7162920" cy="502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47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 time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59436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ff allo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management is concerned with identifying risks and drawing up plans to minimise their effect on a projec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risk is a probability that some adverse circumstance will occu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ject risks affect schedule or resourc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duct risks affect the quality or performance of the software being develop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usiness risks affect the organisation developing or procuring the softwa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447920"/>
            <a:ext cx="74678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ris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90720" y="1523880"/>
          <a:ext cx="7010280" cy="47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10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ident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dentify project, product and business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ssess the likelihood and consequences of these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raw up plans to avoid or minimise the effects of the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monito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onitor the risks throughout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09680"/>
            <a:ext cx="8534520" cy="3124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848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ident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chnology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ople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sational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ments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ion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s and risk ty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523880"/>
            <a:ext cx="8153280" cy="472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600200"/>
          <a:ext cx="701028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01028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ment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schedul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manage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sess probability and seriousness of each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bability may be very low, low, moderate, high or very hig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effects might be catastrophic, serious, tolerable or insignifica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752480"/>
            <a:ext cx="83818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analysi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81080"/>
          <a:ext cx="815328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1532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analysi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9246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981080"/>
          <a:ext cx="746748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467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ider each risk and develop a strategy to manage that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voidance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robability that the risk will arise is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sation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impact of the risk on the project or product will be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f the risk arises, contingency plans are plans to deal with that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management strategie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981080"/>
          <a:ext cx="8991360" cy="42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9913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600200"/>
            <a:ext cx="830556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Risk management strategie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1752480"/>
          <a:ext cx="8534160" cy="41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752480"/>
                    <a:ext cx="853416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monito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sess each identified risks regularly to decide whether or not it is becoming less or more prob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so assess whether the effects of the risk have chan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key risk should be discussed at management progress meet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sk indica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845820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828800"/>
          <a:ext cx="80773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7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ood project management is essential for project succes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intangible nature of software causes problems for manage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nagers have diverse roles but their most significant activities are planning, estimating and schedul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lanning and estimating are iterative processes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ich continue throughout the course of a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jec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project milestone is a predictable state where a formal report of progress is presented to managemen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scheduling involves preparing various graphical representations showing project activities, their durations and staffing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 management is concerned with identifying risks which may affect the project and planning to ensure that these risks do not develop into major threa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erned with activities involved in ensuring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at software is delivered on time and on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hedule and in accordance with th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ments of the organisations developing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 procur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management is needed because software development is always subject to budget and schedule constraints that are set by the organisation develop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project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duct is intang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duct is uniquely flex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engineering is not recognized as an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gineering discipline with the sane status a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chanical, electrical engineering, et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oftware development process is not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ndardi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software projects are 'one-off' projec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management distinc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posal wri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planning and schedul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co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ject monitoring and review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sonnel selection and evalu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ort writing and present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anagement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activities are not peculiar to softwar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techniques of engineering project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ment are equally applicable to software project 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chnically complex engineering systems ten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suffer from the same problems as softwar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anagement commonal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ct staff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y not be possible to appoint the ideal people to work on a proje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ject budget may not allow for the use of highly-paid staff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aff with the appropriate experience may not be availab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organisation may wish to develop employee skills on a software projec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nagers have to work within these constraints especially when there are shortages of trained staff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bably the most time-consuming  project management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inuous activity from initial concept through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system delivery. Plans must be regularly revised as new information becomes avail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rious different types of plan may be developed to support the main software project plan that is concerned with schedule and budge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8T17:21:36Z</dcterms:created>
  <dc:creator/>
  <dc:description/>
  <dc:language>en-US</dc:language>
  <cp:lastModifiedBy>Ian Sommerville</cp:lastModifiedBy>
  <cp:lastPrinted>2000-03-27T07:45:53Z</cp:lastPrinted>
  <dcterms:modified xsi:type="dcterms:W3CDTF">2004-04-23T15:48:02Z</dcterms:modified>
  <cp:revision>26</cp:revision>
  <dc:subject/>
  <dc:title>Project management</dc:title>
</cp:coreProperties>
</file>