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1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88A324B4-E814-4D8B-99B6-FDC73C0A8E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ing a program after it has been put into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does not normally involve major changes to the system’s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are implemented by modifying existing components and adding new components to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mainte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requirements are likely to chang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he system is being developed becau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vironment is changing. Therefore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ed system won't meet its requiremen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are tightly coupled with their environment. When a system is installed in 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 it changes that environment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changes the system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MUST be maintained therefore if the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o remain useful in an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enance is inevi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to repair software fa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ing a system to correct deficiencies in the way meets its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to adapt software to a different operat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ing a system so that it operates in a different environment (computer, OS, etc.) from its initial implemen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to add to or modify the system’s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ing the system to satisfy new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mainte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4758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ion of maintenance eff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600200"/>
            <a:ext cx="662940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greater than development costs (2*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* depending on the applic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ed by both technical and non-technic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as software is maintained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corrupts the software structure s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further maintenance more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ing software can have high support cos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 old languages, compilers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/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6964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4960" y="1530000"/>
            <a:ext cx="8112240" cy="4359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s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costs are reduced if the same staff are involved with them for some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u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evelopers of a system may have no contractual responsibility for maintenance so there is no incentive to design for future 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staff are often inexperienced and have limited domain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age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programs age, their structure is degraded and they become harder to understand and 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enance cost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enance pred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prediction is concerned with assessing which parts of the system may cause problems and have high maintenanc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acceptance depends on the maintainability of the components affected by the chang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ing changes degrades the system and reduces its maintainabil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costs depend on the number of changes and costs of change depend on maintain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enance pred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pred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ng the number of changes requires and understanding of the relationships between a system and it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ly coupled systems require changes whenever the environment is chan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influencing this relationship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nd complexity of system interfac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inherently volatile system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siness processes where the system is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y change is inevitable if software systems are to remain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software maintenance and maintenance cost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processes involved in software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an approach to assessing evolution strategies for 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xity metr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ons of maintainability can be made by assessing the complexity of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have shown that most maintenance effort is spent on a relatively small number of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depends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ity of control structur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ity of data structur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, method (procedure) and module s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etr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easurements may be used to assess main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equests for corrective mainten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required for impact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taken to implement a change reque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outstanding change requ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or all of these is increasing, this may indicate a decline in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olution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 processes depen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of software being maintain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velopment processes us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kills and experience of the people inv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for change are the driver for system evolution. Change identification and evolution continue throughout the system life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600" y="306000"/>
            <a:ext cx="801684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identification and ev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stem evolut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90512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924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209680"/>
            <a:ext cx="8458200" cy="3124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gent change requ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nt changes may have to be implemented without going through all stages of the software engineer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serious system fault has to be repair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hanges to the system’s environment (e.g. an OS upgrade) have unexpected effe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are business changes that require a very rapid response (e.g. the release of a competing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ergency rep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14600"/>
            <a:ext cx="845820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7724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-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structuring or re-writing part or all of a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gacy system without changing its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ble where some but not all sub-systems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a larger system require frequ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ten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engineering involves adding effort to mak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m easier to maintain. The system may be re-structured and re-docu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re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duced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high risk in new software development. There may be development problems, staffing problems and specification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duced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st of re-engineering is often significantly less than the costs of developing new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evolution dyna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cy system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ward and re-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981080"/>
            <a:ext cx="8458200" cy="396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696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-engineer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600200"/>
            <a:ext cx="845820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01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engineering process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code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code to a new langu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e the program to understand i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struc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ucture automatically for understandabil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modular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organise the program 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-up and restructure system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-engineering approa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28800"/>
            <a:ext cx="8458200" cy="403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848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engineering cost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quality of the software to be reengine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ool support available for reengine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extent of the data conversion which i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vailability of expert staff for reengineer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can be a problem with old systems based on technology that is no longer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acy system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ations that rely on legacy systems must choose a strategy for evolving thes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ap the system completely and modify business processes so that it is no longer requir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maintaining the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orm the system by re-engineering to improve its maintainabil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 the system with a new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ategy chosen should depend on the system quality and its business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418600" cy="1108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quality and business val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acy system categ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quality, low business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systems should be scrapp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quality, high-business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make an important business contribution but are expensive to maintain. Should be re-engineered or replaced if a suitable system is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quality, low-business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 with COTS, scrap completely or maint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quality, high business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in operation using normal system mainten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siness value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should take different viewpoints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end-us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custom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 manag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nag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manag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 different stakeholders and collate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qu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process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ell does the business process support the current goals of the busin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effective is the system’s environment and how expensive is it to main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quality of the application software syst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change is inevi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quirements emerge when the software is us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siness environment chang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s must be repair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omputers and equipment is added to the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rformance or reliability of the system may have to be im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ey problem for organisations is implementing and managing change to their existing softwar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siness process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viewpoint-oriented approach and seek answers from system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 defined process model and is it follow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different parts of the organisation use different processes for the same func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has the process been adap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relationships with other business processes and are these necessar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process effectively supported by the legacy application softw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- a travel ordering system may have a low business value because of the widespread use of web-based ord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vironment assessment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752480"/>
          <a:ext cx="7162560" cy="43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vironment assessmen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2362320"/>
          <a:ext cx="7925040" cy="32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92504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assessment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905120"/>
          <a:ext cx="746748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4674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assessmen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981080"/>
          <a:ext cx="7924680" cy="39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79246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collect quantitative data to make an assessment of the quality of the applica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system change request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different user interfaces used by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ume of data used by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development and evolution should be a single iterativ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hman’s Laws describe a number of insights into system 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ypes of maintenance are bug fixing, modifying software for a new environment and implementing new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ustom systems, maintenance costs usually exceed development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606680"/>
            <a:ext cx="8188560" cy="4435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evolution is driven by requests for changes from system stakeho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re-engineering is concerned with re-structuring and re-documenting software to make it easier to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siness value of a legacy system and its quality should determine the evolution strategy that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ortance of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s have huge investments in their software systems - they are critical business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intain the value of these assets to the business, they must be changed and upd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jority of the software budget in large companies is devoted to evolving existing software rather than developing new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ral model of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294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Program evolution dynam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study of the processes of system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major empirical studies, Lehman and Belady proposed that there were a number of ‘laws’ which applied to all systems as they e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ensible observations rather than laws. They are applicable to large systems developed by large organisations. Perhaps less applicable in other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am evolution dyna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hman’s la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523880"/>
            <a:ext cx="716292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371600" y="1600200"/>
          <a:ext cx="6553080" cy="49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bility of Lehman’s la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804080" cy="390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4000"/>
          </a:bodyPr>
          <a:p>
            <a:pPr marL="45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man’s laws seem to be generally applicable to large, tailored systems developed by large organis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rmed in more recent work by Lehman on the FEAST project (see further reading on book websit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hey should be modified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rink-wrapped software produc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that incorporate a significant number of COTS compon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organisat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um sized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4T20:02:34Z</dcterms:created>
  <dc:creator/>
  <dc:description/>
  <dc:language>en-US</dc:language>
  <cp:lastModifiedBy>Ian Sommerville</cp:lastModifiedBy>
  <cp:lastPrinted>2004-06-01T12:04:06Z</cp:lastPrinted>
  <dcterms:modified xsi:type="dcterms:W3CDTF">2004-06-01T12:04:41Z</dcterms:modified>
  <cp:revision>35</cp:revision>
  <dc:subject/>
  <dc:title>Software change </dc:title>
</cp:coreProperties>
</file>