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ct" ContentType="image/x-pict"/>
  <Override PartName="/ppt/media/image11.png" ContentType="image/png"/>
  <Override PartName="/ppt/media/image8.pct" ContentType="image/x-pict"/>
  <Override PartName="/ppt/media/image16.pct" ContentType="image/x-pict"/>
  <Override PartName="/ppt/media/image1.png" ContentType="image/png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13.png" ContentType="image/png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8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48E65AAD-219C-4C71-8749-862FAF53ED5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344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large projects with ‘average’ capabilities, the development process determines product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mall projects, the capabilities of the developers is the main determin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ment technology is particularly significant for small pro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cases, if an unrealistic schedule is imposed then product quality will s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detailed process model. Development team chose their own way of wor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d process model which drives the develop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es supported by some development method su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the R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es supported by automated CASE too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lass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pplic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600200"/>
            <a:ext cx="7315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38680" cy="42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used should depend on typ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which is being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systems, management is usually the principal problem so you need a strictly managed pro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maller systems, more informality is possi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uniformly applicable process whi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standardised within an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sts may be incurred if you force an inappropriate process on a development tea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ppropriate methods can also increase costs and lead to reduced qu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o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tool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752480"/>
            <a:ext cx="8458200" cy="3733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ver possible, quantitative process dat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where organisations do not have clearly defined process standards this is very difficult as you don’t know what to measure. A process may have to be defined before any measurement is possi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asurements should be used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process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this does not mean that measurements should drive the improvements. The improvement driver should be the organizational objecti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taken for process activities to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Calendar time or effort to complete an activity or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required for processes or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Total effort in person-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occurrences of a particula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Number of defects discov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es of process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rganisation trying to achieve? The objective of process improvement is to satisfy these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about areas of uncertainty related to the goals. You need process knowledge to derive th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to be collected to answer the ques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al-Question-Metric Paradig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existing processes to understand the relationships between parts of the process and to compare them with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cumentation of a process which records the tasks, the roles and the entities us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odels may be presented from different perspec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an existing process to understand 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an abstract model of the process. You should normally represent this graphically. Several different views (e.g. activities, deliverables, etc.) may be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e the model to discover proce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. This involves discussing process activities with stakeholders and discovering problems and possible process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principles of software process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how software process factors influence software quality and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how to develop simple models of software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notion of process capability and the CMMI process improvemen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shed process models and proce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lways best to start process analysis with an existing model. People then may extend and chang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naires and inter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arefully designed. Participants may tell you what they think you want to h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nographic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s assimilating process knowledge by observation. Best for in-depth analysis of process fragments rather than for whole-process understa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 element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1828800"/>
          <a:ext cx="8610480" cy="44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6104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 element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8077320" cy="38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07732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dule testing a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3911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vities in modul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00200"/>
            <a:ext cx="81532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excep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processes are complex and process models cannot effectively represent how to handle excep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key people becoming ill just before a critical review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reach of security that means all external communications are out of action for several day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ational reorganis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ed to respond to an unanticipated request for new propos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these circumstances, the model is suspended and managers use their initiative to deal with the exce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making modifications to existing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y invol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new practices, methods or process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ing the ordering of process activit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or removing deliverabl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new roles or responsi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should be driven by measurabl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chang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773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ange s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dent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priorit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 int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 trai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u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MI fra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framework is the current stage of work on process assessment and improvement that started at the Software Engineering Institute in the 198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EI’s mission is to promote software technology transfer particularly to US defence contr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s had a profound influence on process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pability Maturity Model introduced in the early 199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ised maturity framework (CMMI) introduced in 20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d product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MMI process improvement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apabi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ded as a means to assess the extent to which an organisation’s processes follow best prac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providing a means for assessment, it is possible to identify areas of weakness for process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various process assessment and improvement models but the SEI work has been most influ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tially un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management procedur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management procedures and strategies defin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management strategi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improvement strategi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I capability maturit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s with the CM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s associated with model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ies could be using practices from different levels at the same time but if all practices from a lower level were not used, it was not possible to move beyond that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rather than contin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not recognise distinctions between the top and the bottom of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-ori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ed with how things were done (the practices) rather than the goals to b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tegrated capability model that includes software and systems engineering capability assess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has two instant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d where the model is expressed in terms of capability level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where a capability rating is compu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model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process areas that are relevant to process capability and improvement are identified. These are organised into 4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s are descriptions of desirable organisational states. Each process area has associated go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s are ways of achieving a goal - however, they are advisory and other approaches to achieve the goal may be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ocess area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133720"/>
          <a:ext cx="7848720" cy="35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848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ocess area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2057400"/>
          <a:ext cx="7391520" cy="36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905120"/>
          <a:ext cx="579132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579132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1676520"/>
          <a:ext cx="7772400" cy="46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7724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s the processes used in an organisation and assesses their maturity in each process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a 6-point sca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erform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itatively manag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existing processes and introducing process changes to improve product quality, reduce costs or accelerate sche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rocess improvement work so far h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defect reduction. This reflects the increasing attention paid by industry to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other process attributes can also be the focus of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ged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with the software C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aturity level has process areas and goals. For example, the process area associated with the managed level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manage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plann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monitoring and contro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r agreement manage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and analys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and product quality assu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ged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55344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itutional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tions operating at the managed level should have institutionalised practices that are geared to standard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d maintain  policy for performing the project management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dequate resources for performing the project management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and control the project planning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the activities, status and results of the project planning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tinuous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finer-grain model that considers individual or groups of practices and assesses their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turity assessment is not a single value but is a set of values showing the organisations maturity in each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rates each process area from levels 1 to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vantage of a continuous approach is that organisations can pick and choose process areas to improve according to their local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rocess capability prof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87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3920" y="1600200"/>
            <a:ext cx="779472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improvement involves process analysis, standardisation, measurement and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can be classified as informal, managed, methodical and improving. This classification can be used to identify process tool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improvement cycle involves process measurement, process analysis and process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asurement should be used to answer specific process questions, based on organisational improvement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4080" y="1523880"/>
            <a:ext cx="814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types of process metrics used in the measurement process are time metrics, resource utilisation metrics and event metr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odels include descriptions of tasks, activities, roles, exceptions, communications, deliverables and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process maturity model integrates software and systems engineering process impr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improvement in the CMMI model is based on reaching a set of goals related to good software engineering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7772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1676520"/>
          <a:ext cx="6553080" cy="459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5530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266400"/>
            <a:ext cx="7770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improvement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18148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6960" y="1600200"/>
            <a:ext cx="7442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s of the current process are measured. These are a baseline for assessing improv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rrent process is assessed and bottlenecks and weaknesses are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to the process that have been identified during the analysis are intro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 s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quality and product quality are closel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and process improvement benefits arise because the quality of the product depends on its development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process is usually required to produce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anufactured goods, process is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 quality determin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design-based activity, other factors are also involved especially the capabilities of the desig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d product qu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al product quality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6T14:08:47Z</dcterms:created>
  <dc:creator/>
  <dc:description/>
  <dc:language>en-US</dc:language>
  <cp:lastModifiedBy>Ian Sommerville</cp:lastModifiedBy>
  <cp:lastPrinted>1995-11-21T09:09:21Z</cp:lastPrinted>
  <dcterms:modified xsi:type="dcterms:W3CDTF">2004-06-14T22:25:02Z</dcterms:modified>
  <cp:revision>29</cp:revision>
  <dc:subject/>
  <dc:title>Process Improvement </dc:title>
</cp:coreProperties>
</file>