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15.pct" ContentType="image/x-pict"/>
  <Override PartName="/ppt/media/image14.png" ContentType="image/png"/>
  <Override PartName="/ppt/media/image6.pct" ContentType="image/x-pict"/>
  <Override PartName="/ppt/media/image11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63098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7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F6BD5AD8-6A91-4ED4-8004-4B17F626070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13336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Engineer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blems of requirements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keholders don’t know what they really w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keholders express requirements in their own te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stakeholders may have conflicting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ational and political factors may influence the system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quirements change during the analysis process. New stakeholders may emerge and the business environme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quirements spir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305240" cy="44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ctiv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ng with stakeholders to discover their requirements. Domain requirements are also discovered at this st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classification and organ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s related requirements and organises them into coherent clus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sation and nego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oritising requirements and resolving requirements confli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doc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ments are documented and input into the next round of the spi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dis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gathering information about the proposed and existing systems and distilling the user and system requirements from this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s of information include documentation, system stakeholders and the specifications of similar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M stakehol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k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s of other ba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k mana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er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base administrat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mana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ing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and software maintenance engin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king regul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ew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points are a way of structuring the requirements to represent the perspectives of different stakeholders. Stakeholders may be classified under different viewpo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ulti-perspective analysis is important as there is no single correct way to analyse system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es of viewpoi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or view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or other systems that interact directly with the system. In an ATM, the customer’s and the account database are interactor V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rect view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keholders who do not use the system themselves but who influence the requirements. In an ATM, management and security staff are indirect viewpoi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view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main characteristics and constraints that influence the requirements. In an ATM, an example would be standards for inter-bank commun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ewpoint ident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viewpoints u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s and receivers of system servic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s that interact directly with the system being specifi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ions and standard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s of business and non-functional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ers who have to develop and maintain the syst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ing and other business view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SYS viewpoint hierarc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vie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formal or informal interviewing, the RE team puts questions to stakeholders about the system that they use and the system to be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wo types of int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d interviews where a pre-defined set of questions are answe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interviews where there is no pre-defined agenda and a range of issues are explored with 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the principal requirements engineering activities and their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troduce techniques for requirements elicitation and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requirements validation and the role of requirements re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iscuss the role of requirements management in support of other requirements engineering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views in 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ly a mix of closed and open-ended interview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iews are good for getting an overall understanding of what stakeholders do and how they might interact with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iews are not good for understanding domain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ments engineers cannot understand specific domain terminolog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omain knowledge is so familiar that people find it hard to articulate or think that it isn’t worth articul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ective interview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ers should be open-minded, willing to listen to stakeholders and should not have pre-conceived ideas about the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hould prompt the interviewee with a question or a proposal and should not simply expect them to respond to a question such as ‘what do you want’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enar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enarios are real-life examples of how a system can be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hould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scription of the starting situ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scription of the normal flow of eve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scription of what can go wro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about other concurrent activiti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scription of the state when the scenario finis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SYS scenario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76520"/>
            <a:ext cx="8458200" cy="3504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62120" y="2057400"/>
          <a:ext cx="8076960" cy="27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807696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SYS scenario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828800"/>
            <a:ext cx="8458200" cy="3657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2057400"/>
          <a:ext cx="7924680" cy="297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924680" cy="29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c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-cases are a scenario based technique in the UML which identify the actors in an interaction and which describe the interaction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use cases should describe all possible interactions with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ce diagrams may be used to add detail to use-cases by showing the sequence of event processing in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ticle printing use-c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696080" cy="3352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60195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SYS use c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752480"/>
            <a:ext cx="63244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3973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ticle pri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72428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t article sequ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1500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sibility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elicitation and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cial and organisational 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systems are used in a social and organisational context. This can influence or even dominate the system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and organisational factors are not a single viewpoint but are influences on all viewpo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analysts must be sensitive to these factors but currently no systematic way to tackle their analy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thn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ocial scientists spends a considerable time observing and analysing how people actually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do not have to explain or articulate their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and organisational factors of importance may be obser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nographic studies have shown that work is usually richer and more complex than suggested by simple system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cused ethn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in a project studying the air traffic contro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es ethnography with proto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type development results in unanswered questions which focus the ethnographic analy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 with ethnography is that it studies existing practices which may have some historical basis which is no longer relev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thnography and prototy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133720"/>
            <a:ext cx="8458200" cy="3352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754380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ope of ethn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that are derived from the way that people actually work rather than the way I which process definitions suggest that they ought to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that are derived from cooperation and awareness of other people’s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valid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ed with demonstrating that the requirements define the system that the customer really w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error costs are high so validation is very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ing a requirements error after delivery may cost up to 100 times the cost of fixing an implementation err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chec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lid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Does the system provide the functions which best support the customer’s nee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iste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re there any requirements conflic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mpleten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re all functions required by the customer inclu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li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Can the requirements be implemented given available budget and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ifiabi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Can the requirements be check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validation techn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re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atic manual analysis of the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an executable model of the system to check requirements. Covered in Chapter 1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-case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ing tests for requirements to check testabi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re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reviews should be held while the requirements definition is being formul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client and contractor staff should be involved in revie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s may be formal (with completed documents) or informal. Good communications between developers, customers and users can resolve problems at an early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iew che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erifia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s the requirement realistically test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rehensi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s the requirement properly understo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cea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s the origin of the requirement clearly st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apta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Can the requirement be changed without a large impact on other require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quirements engineering proce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es used for RE vary widely depending on the application domain, the people involved and the organisation developing the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are a number of generic activities common to al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elicit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analys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valid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manag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management is the process of managing changing requirements during the requirements engineering process and system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are inevitably incomplete and incons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requirements emerge during the process as business needs change and a better understanding of the system is develop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viewpoints have different requirements and these are often contradicto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chan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ority of requirements from different viewpoints changes during the development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customers may specify requirements from a business perspective that conflict with end-user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usiness and technical environment of the system changes during its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ev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752480"/>
            <a:ext cx="8076960" cy="4267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248520" cy="31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153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during and volatile requir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during require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Stable requirements derived from the core activity of the customer organisation. E.g. a hospital will always have doctors, nurses, etc. May be derived from domai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olatile require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Requirements which change during development or when the system is in use. In a hospital, requirements derived from health-care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class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2057400"/>
          <a:ext cx="8229600" cy="394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22960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quirements management plan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requirements engineering process, you have to pla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ments iden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requirements are individually identifie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hange management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cess followed when analysing a requirements chang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ability poli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mount of information about requirements relationships that is maintaine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E tool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ol support required to help manage requirements chang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ability is concerned with the relationships between requirements, their sources and the system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trace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s from requirements to stakeholders who proposed these requirem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trace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s between dependent requirem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trace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s from the requirements to the desig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1981080"/>
            <a:ext cx="8458200" cy="403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raceability matri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-228600" y="2057400"/>
          <a:ext cx="9372600" cy="351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2057400"/>
                    <a:ext cx="937260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E tool sup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ments should be managed in a secure, managed data st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ocess of change management is a workflow process whose stages can be defined and information flow between these stages partially autom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abilit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ed retrieval of the links between requir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quirements change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apply to all proposed changes to the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 s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analysis. Discuss requirements problem and propose chang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analysis and costing. Assess effects of change on other requireme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implementation. Modify requirements document and other documents to reflec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676520"/>
            <a:ext cx="7620120" cy="449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quirements engineering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4008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2666880"/>
            <a:ext cx="8458200" cy="213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75438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quirements engineering process includes a feasibility study, requirements elicitation and analysis, requirements specification and requirements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elicitation and analysis is iterative involving domain understanding, requirements collection, classification, structuring,  prioritisation and valid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 have multiple stakeholders with different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and organisation factors influence system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validation is concerned with checks for validity, consistency, completeness, realism and verifi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changes inevitably lead to changing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management includes planning and change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engine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2214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asibility stud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easibility study decides whether or not the proposed system is worthwh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hort focused study that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system contributes to organisational objectiv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system can be engineered using current technology and within budge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system can be integrated with other systems that ar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asibility study implem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information assessment (what is required), information collection and report wri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s for people in the organ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f the system wasn’t implement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re current process problem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proposed system hel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be the integration problem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new technology needed? What skil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acilities must be supported by the proposed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citation and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called requirements elicitation or requirements discov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olves technical staff working with customers to find out about the application domain, the services that the system should provide and the system’s operational constra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involve end-users, managers, engineers involved in maintenance, domain experts, trade unions, etc. These are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7T10:52:51Z</dcterms:created>
  <dc:creator/>
  <dc:description/>
  <dc:language>en-US</dc:language>
  <cp:lastModifiedBy>Ian Sommerville</cp:lastModifiedBy>
  <cp:lastPrinted>2009-04-22T19:24:48Z</cp:lastPrinted>
  <dcterms:modified xsi:type="dcterms:W3CDTF">2004-04-23T20:19:54Z</dcterms:modified>
  <cp:revision>38</cp:revision>
  <dc:subject/>
  <dc:title>Requirements Engineering Processes</dc:title>
</cp:coreProperties>
</file>