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5.png" ContentType="image/png"/>
  <Override PartName="/ppt/media/image3.pct" ContentType="image/x-pict"/>
  <Override PartName="/ppt/media/image4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media/image10.pct" ContentType="image/x-pi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766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3834360"/>
            <a:ext cx="7804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8960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29520" y="167652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8320" y="167652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383436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29520" y="383436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8320" y="383436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69960" y="306000"/>
            <a:ext cx="780408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8960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3834360"/>
            <a:ext cx="7804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560" y="1371600"/>
            <a:ext cx="9118440" cy="46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49360" indent="-241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809720" indent="-239760">
              <a:spcBef>
                <a:spcPts val="700"/>
              </a:spcBef>
              <a:buClr>
                <a:srgbClr val="063de8"/>
              </a:buClr>
              <a:buSzPct val="65000"/>
              <a:buFont typeface="Monotype Sorts" charset="2"/>
              <a:buChar char="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70080" indent="-239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170080" indent="-239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170080" indent="-239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68440" y="6523200"/>
            <a:ext cx="815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6800" bIns="46800" anchor="t">
            <a:spAutoFit/>
          </a:bodyPr>
          <a:p>
            <a:pPr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©Ian Sommerville 2004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Software Engineering, 7th edition. Chapter 29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                        Slide  </a:t>
            </a:r>
            <a:fld id="{0BF1580F-AA33-43D1-BABD-A193151EECE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804080" cy="917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figuration manage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3733920"/>
            <a:ext cx="914400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products of the software process may have to be manag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ification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gram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 dat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r manu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usands of separate documents may b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ted for a large, complex software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380880" y="263520"/>
            <a:ext cx="84758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figuration management plann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es the types of documents to be managed and a document naming sche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es who takes responsibility for the CM procedures and creation of baseli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es policies for change control and version manag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es the CM records which must be maintain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M pl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M pl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s the tools which should be used to assist the CM process and any limitations on their 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es the process of tool 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es the CM database used to record configuration inform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include information such as the CM of external software, process auditing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rge projects typically produce thousands of documents which must be uniquely identifi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of these documents must be maintained for the lifetime of the softwa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 naming scheme should be defin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 that related documents have related nam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hierarchical scheme with multi-level names i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ably the most flexible approa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CL-TOOLS/EDIT/FORMS/DISPLAY/AST-INTERFACE/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figuration item identific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figuration hierarch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152388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6324840" cy="432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CM information should be maintained in a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iguration databa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should allow queries about configurations to b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swere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o has a particular system versio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platform is required for a particular versio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versions are affected by a change to component X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reported faults in version 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M database should preferably be linked to the software being manag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onfiguration databa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M database implement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be part of an integrated environment to support software developmen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M database and the managed documents are all maintained on the sam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E tools may be integrated with this so that there is a close relationship between the CASE tools and the CM too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commonly, the CM database is maintained separately as this is cheaper and more flexi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ftware systems are subject to continual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e reques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m user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m developer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m market for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e management  is concerned with keeping track of these changes and ensuring that they are implemented in the most cost-effective w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ange manage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152388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4952880" cy="41148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change management proc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efinition of a change request form is part of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M planning proc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form records the change proposed, requestor of change, the reason why change was suggested and the urgency of change(from requestor of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also records change evaluation, impact analysis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 cost and recommendations (System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tenance staff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ange request for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explain the importance of software configuration management (C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describe key CM activities namely CM planning, change management, version management and system buil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discuss the use of CASE tools to support configuration management pro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ange request for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1600200"/>
            <a:ext cx="66294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rcRect l="0" t="0" r="343880" b="0"/>
          <a:stretch/>
        </p:blipFill>
        <p:spPr>
          <a:xfrm>
            <a:off x="1371600" y="1676520"/>
            <a:ext cx="5867280" cy="446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ajor problem in change management i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cking change stat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e tracking tools keep track the status of each change request and automatically ensure that change requests are sent to the right people at the right ti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grated with E-mail systems allowing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onic change request distribu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ange tracking too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s should be reviewed by an external group who decide whether or not they are cost-effective from a strategic and organizational viewpoint rather than a technical viewpoin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uld be independent of project responsibl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system. The group is sometimes called a change control boar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CB may include representatives from client and contractor staff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ange control boar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a record of changes applied to a document or code compon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record, in outline, the change made, the rationale for the change, who made the change and when it was implemen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may be included as a comment in code. If a standard prologue style is used for the derivation history, tools can process this automatical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rivation histo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ponent header inform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762120" y="1981080"/>
          <a:ext cx="7619760" cy="377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1080"/>
                    <a:ext cx="7619760" cy="377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 an identification scheme for system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s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 when a new system version is to b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c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sure that version management procedures and tools are properly appli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 and distribute  new system relea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ersion and release manage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Vers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An instance of a system which i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ctionally distinct in some way from othe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em instan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Varia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An instance of a system which i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ctionally identical but non-functionall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inct from other instances of a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leas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An instance of a system which i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ributed to users outside of the development tea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ersions/variants/relea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ersion identific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dures for version identification should define an unambiguous way of identifying component vers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three basic techniques for component ident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sion numberin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tribute-based identificatio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-oriented identific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ple naming scheme uses a linear deriv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1, V1.1, V1.2, V2.1, V2.2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ctual derivation structure is a tree or a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 rather than a seque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mes are not meaningfu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hierarchical naming scheme leads to fewer errors in version identificat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ersion number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ersion derivation struc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1676520"/>
            <a:ext cx="8458200" cy="4647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14400" y="2209680"/>
            <a:ext cx="7543800" cy="323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pics cover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iguration management plan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e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sion and release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em buil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E tools for configuration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 fontScale="99000"/>
          </a:bodyPr>
          <a:p>
            <a:pPr marL="483840" indent="-483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tributes can be associated with a version with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ombination of attributes identifying tha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7840" indent="-474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s of attributes are Date, Creator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gramming Language, Customer, Status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3840" indent="-483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more flexible than an explicit naming schem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version retrieval; However, it can cause problems with uniqueness - the set of attributes have to be chosen so that all versions can be uniquely identifi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3840" indent="-483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practice, a version also needs an associated name for easy refere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tribute-based identific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tribute-based quer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important advantage of attribute-based identification is that it can support queries so that you can find ‘the most recent version in Java’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query selects a version depending on attribute val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3D (language =Java, platform = XP, date = Jan 2003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ange-oriented identific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ates versions and the changes made to create these vers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for systems rather than compon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proposed change has a change set that describes changes made to implement that chan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 sets are applied in sequence so that, in principle, a version of the system that incorporates an arbitrary set of changes may be crea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eases must incorporate changes forced on the system by errors discovered by users and by hardware chan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must also incorporate new system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ctiona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ease planning is concerned with when to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sue a system version as a relea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lease manage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stem relea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just a set of executable progra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y also inclu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figuration files defining how the release is configured for a particular installation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ta files needed for system operation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installation program or shell script to install the system on target hardwar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ctronic and paper documentation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ckaging and associated public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tems are now normally released on optical disks (CD or DVD) or as downloadable installation files from the web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 fontScale="97000"/>
          </a:bodyPr>
          <a:p>
            <a:pPr marL="474120" indent="-474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stomer may not want a new release of th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56240" indent="-465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may be happy with their current system as the new version may provide unwanted functionality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120" indent="-474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ease management should not assume that all previous releases have been accepted. All files required for a release should be re-created when a new release is install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lease proble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lease decision mak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paring and distributing a system release is an expensive proc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ors such as the technical quality of the system, competition, marketing requirements and customer change requests should all influence the decision of when to issue a new system relea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stem release strateg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1523880"/>
            <a:ext cx="8458200" cy="4876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990720" y="1676520"/>
          <a:ext cx="6781680" cy="472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6781680" cy="47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lease cre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 fontScale="99000"/>
          </a:bodyPr>
          <a:p>
            <a:pPr marL="483840" indent="-48384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ease creation involves collecting all files and documentation required to create a system relea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3840" indent="-48384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iguration descriptions have to be written for different hardware and installation scripts have to be writt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3840" indent="-48384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pecific release must be documented to record exactly what files were used to create it. This allows it to be re-created if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cess of compiling and linking software components into an executable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erent systems are built from differen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binations of compon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process is now always supported by automated tools that are driven by ‘build scripts’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stem build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versions of software systems are created as they chang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different machines/O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fering different functionality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ilored for particular user require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iguration management is concerned with managing evolving software system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tem change is a team activity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M aims to control the costs and effort involved in making changes to a syst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figuration manage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60320" y="1523880"/>
            <a:ext cx="8172720" cy="4129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the build instructions include all requi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onent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there are many hundreds of components making up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ystem, it is easy to miss one out. This should normally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 detected by the link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the appropriate component versio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ifi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ore significant problem. A system built with the wrong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rsion may work initially but fail after deliver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all data files availabl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build should not rely on 'standard' data files. Standards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ary from place to pla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stem building proble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3600" y="1600200"/>
            <a:ext cx="8326440" cy="4129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data file references within component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mbedding absolute names in code almost always causes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s as naming conventions differ from place to pla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the system being built for the right platf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times you  must build for a specific OS version or hardware configur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the right version of the compiler and othe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ware tools specifi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erent compiler versions may actually generate different code and the compiled component will exhibit different behaviou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stem building proble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_x0008_System build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1828800"/>
            <a:ext cx="8458200" cy="3886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5800" y="2514600"/>
            <a:ext cx="8001000" cy="23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263520"/>
            <a:ext cx="8266320" cy="1108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E tools for configuration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M processes are standardised and involve applying pre-defined procedu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ge amounts of data must be manag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E tool support for CM is therefore essenti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ure CASE tools to support configuration management are available ranging from stand-alone tools to integrated CM workbench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M workbench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 workbenc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ols for each stage in the CM process are integrated through organisational procedures and scripts. Gives flexibility in tool selec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grated workbenc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whole-process, integrated support for configuration management. More tightly integrated tools so easier to use. However, the cost is less flexibility in the tools us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ange management too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 management is a procedural process so it can be modelled and integrated with a version management syst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 management t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m editor to support processing the change request form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kflow system to define who does what and to automate information transfer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nge database that manages change proposals and is linked to a VM system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nge reporting system that generates management reports on the status of change reques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ersion management too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 fontScale="97000"/>
          </a:bodyPr>
          <a:p>
            <a:pPr marL="474120" indent="-474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rsion and release identif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56240" indent="-4651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stems  assign identifiers automatically when a new version is submitted to the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74120" indent="-474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orage manage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56240" indent="-4651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stem stores the differences between versions rather than all the version co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74120" indent="-474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nge history recor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56240" indent="-4651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ord reasons for version cre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74120" indent="-474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dependent develop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56240" indent="-4651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y one version at a time may be checked out for change. Parallel working on different vers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74120" indent="-474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ject sup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56240" indent="-4651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 manage groups of files associated with a project rather than just single fil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lta-based version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85800" y="2743200"/>
            <a:ext cx="7772400" cy="251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stem build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ilding a large system is computationally expensive and may take several hou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ndreds of files may be involv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em building tools may prov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dependency specification language and interprete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ol selection and instantiation suppor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ributed compilatio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rived object manage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ponent dependenc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5334120" cy="42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figuration manage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olves the development and application of procedures and standards to manage an evolving software produ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M may be seen as part of a more general quality management proc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released to CM, software systems are sometimes calle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baselin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s they are a starting point for further develop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iguration management is the management of system change to software produc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formal document naming scheme should b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ished and documents should be managed in a databa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onfiguration data base should record information about changes and change reques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onsistent scheme of version identification should be established using version numbers, attributes or change se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y poi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y poi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tem releases include executable code, data, configuration files and document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tem building involves assembling components into a system.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E tools are available to support all CM activ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E tools may be stand-alone tools or may be integrated systems which integrate support for version management, system building and change manage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stem famil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458200" cy="4267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7772400" cy="291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M standar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M should always be based on a set of standards which are applied within an organis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dards should define how items are identified, how changes are controlled and how new versions are manag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dards may be based on external CM standards (e.g. IEEE standard for CM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existing standards are based on a waterfall process model - new CM standards are needed for evolutionary develop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current development and tes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time (say 2pm) for delivery of system components is agre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new version of a system is built from these components by compiling and linking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new version is delivered for testing using pre-defined tes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ults that are discovered during testing are documented and returned to the system develop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requent system build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easier to find problems that stem from component interactions early in the proc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encourages thorough unit testing - developers are under pressure not to ‘break the build’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tringent change management process is required to keep track of problems that have been discovered and repai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1T19:19:00Z</dcterms:created>
  <dc:creator/>
  <dc:description/>
  <dc:language>en-US</dc:language>
  <cp:lastModifiedBy>Ian Sommerville</cp:lastModifiedBy>
  <cp:lastPrinted>2000-08-20T21:03:24Z</cp:lastPrinted>
  <dcterms:modified xsi:type="dcterms:W3CDTF">2004-06-09T18:30:51Z</dcterms:modified>
  <cp:revision>36</cp:revision>
  <dc:subject/>
  <dc:title>Configuration management</dc:title>
</cp:coreProperties>
</file>