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13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19958344-2BB3-4302-AAA4-D95F6A3E70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-3816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put-process-outpu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inp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reads data from a file or database, checks its validity and queues the valid data for proces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proces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takes a transaction from the queue (input), performs computations and creates a new record with the results of the compu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outp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omponent reads these records, formats them accordingly and writes them to the database or sends them to a print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-flow diagra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w how data is processed as it moves through a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ormations are represented as round-edged rectangles, data-flows as arrows between them and files/data stores as rectangl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alary payment DF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45820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3915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user requests for information from a database or requests to update the datab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a user perspective a transaction 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y coherent sequence of operations that satisfies a goa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example - find the times of flights from London to Pari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rs make asynchronous requests for service which are then processed by a transaction manag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438280"/>
            <a:ext cx="7925040" cy="236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7057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TM system organ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processing middlewa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c0128"/>
                </a:solidFill>
                <a:latin typeface="Arial"/>
              </a:rPr>
              <a:t>Transaction management middlew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or teleprocessing monitors handle communications with different terminal types (e.g. ATMs and counter terminals), serialises data and sends it for process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ry processing takes place in the system database and results are sent back through the transaction manager to the user’s termina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ion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formation systems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formation systems have a generic architecture that can be organised as a layered archite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yers includ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user interfa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commun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ataba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formation system stru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4674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0292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explain the organisation of two fundamental models of business systems - batch processing and transaction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the abstract architecture of resource management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explain how generic editors are event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describe the structure of language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BSYS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library system LIBSYS is an example of an information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communications layer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BSYS login componen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m and query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int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formation retrieval lay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tributed search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ument retrieval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ghts manage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count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IBSYS organis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676520"/>
            <a:ext cx="73911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1814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urce allocation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s that manage a fixed amount of some resource (football game tickets, books in a bookshop, etc.) and allocate this to us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s of resource allocation syste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metabling systems where the resource being allocated is a time perio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ibrary systems where the resource being managed is books and other items for loa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ir traffic control systems where the resource being managed is the airspa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urce allocation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ource allocation systems are also layered systems that includ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databas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ule set describing how resources are allocat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manage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resource allocato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authent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Query managemen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source delivery componen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r interfa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yered resource allo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676520"/>
            <a:ext cx="678204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yered system implement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layer can be implemented as a large scale component running on a separate server. This is the most commonly used architectural model for web-based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 a single machine, the middle layers are implemented as a separate program that communicates with the database through its AP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ne-grain components within layers can be implemented as web servic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4495680"/>
            <a:ext cx="800100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238880" cy="65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-commerce system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-commerce systems are Internet-based resource management systems that accept electronic orders for goods or servic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are usually organised using a multi-tier architecture with application layers associated with each ti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systems respond to events in the system’s environ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ir key characteristic is that event timing is unpredictable so the architecture has to be organised to handle th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common systems such as word processors, games, etc. are event processing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l-time systems (Chapter 15) and editing systems are the most common types of event processing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diting system characteristic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ingle user system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ust provide rapid feedback to user action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rganised around long transactions so may include recovery facil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 compon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diting systems are naturally object-orient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creen - monitors screen memory and detects event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- recognises events and passes them for processing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mand - executes a user comman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ditor data - manages the editor data structur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cillary data - manages other data such as styles and preferenc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ile system - manages file I/O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play - updates the screen displa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diting system archite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676520"/>
            <a:ext cx="59436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12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ccept a natural or artificial language as input and generate some other representation of that languag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y include an interpreter to act on the instructions in the language that is being proc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sed in situations where the easiest way to solve a problem is to describe an algorithm or describe the system dat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ta-case tools process tool descriptions, method rules, etc and generate too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language processing syst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001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guage processing compon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xical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mbol t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ntax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ntax tre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mantic analys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de generat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-flow model of a compi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81080"/>
            <a:ext cx="80010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pository model of a compi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80010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16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ic models of application architectures help us understand and compare applic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t classes of application are data processing systems, transaction processing systems, event processing systems and language processing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 operate in batch mode and have an input-process-output stru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action processing systems allow information in a database to be remotely accessed and modified by multiple us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vent processing systems include editors and real-time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n editor, user interface events are detected and an in-store data structure is modifi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nguage processing systems translate texts from one language to another and may interpret the specified instru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ic 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ication systems are designed to meet an organisational ne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businesses have much in common, their application systems also tend to have a common architecture that reflects the application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generic architecture is configured and adapted to create a system that meets specific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se of application architectu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starting point for architectural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design check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way of organising the work of the development te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means of assessing components for reu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 a vocabulary for talking about application typ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ty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ata processing app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 driven applications that process data in batches without explicit user intervention during the process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ransaction processing app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-centred applications that process user requests and update information in a system databas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plications where system actions depend on interpreting events from the system’s environ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4186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pplications where the users’ intentions are specified in a formal language that is processed and interpreted by the syste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pplication type examp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illing system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yroll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ransaction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-commerce system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rvation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vent processing system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d processor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l-time system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nguage processing syst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iler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-423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mand interpret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6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 processing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s that are data-centred where the databases used are usually orders of magnitude larger than the software itself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is input and output in bat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put: A set of customer numbers and associated readings of an electricity meter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utput: A corresponding set of bills, one for each customer numb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processing systems usually have an input-process-output struct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676520"/>
            <a:ext cx="8458200" cy="441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put-process-output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30T19:12:41Z</dcterms:created>
  <dc:creator/>
  <dc:description/>
  <dc:language>en-US</dc:language>
  <cp:lastModifiedBy>Ian Sommerville</cp:lastModifiedBy>
  <cp:lastPrinted>2004-05-11T21:00:03Z</cp:lastPrinted>
  <dcterms:modified xsi:type="dcterms:W3CDTF">2004-05-11T21:00:29Z</dcterms:modified>
  <cp:revision>36</cp:revision>
  <dc:subject/>
  <dc:title>Design with Reuse</dc:title>
</cp:coreProperties>
</file>