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1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media/image7.pct" ContentType="image/x-pi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</p:sldIdLst>
  <p:sldSz cx="9104313" cy="6832600"/>
  <p:notesSz cx="6858000" cy="9766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667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85680" y="1670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985680" y="38196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667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5680" y="1670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68360" y="1670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85680" y="3819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968360" y="3819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667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85680" y="1670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613680" y="1670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41320" y="1670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985680" y="3819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613680" y="3819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41320" y="3819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667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985680" y="1670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667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85680" y="1670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667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85680" y="16700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968360" y="16700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667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66720" y="30492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667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85680" y="1670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68360" y="16700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985680" y="3819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667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5680" y="16700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68360" y="1670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68360" y="3819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667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85680" y="1670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68360" y="1670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85680" y="38196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5560" y="1366920"/>
            <a:ext cx="9080280" cy="4680"/>
          </a:xfrm>
          <a:prstGeom prst="line">
            <a:avLst/>
          </a:prstGeom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667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85680" y="1670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1035000" indent="-455400"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2" marL="1378080" indent="-230400"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3" marL="1720800" indent="-228600">
              <a:spcBef>
                <a:spcPts val="675"/>
              </a:spcBef>
              <a:buClr>
                <a:srgbClr val="063de8"/>
              </a:buClr>
              <a:buSzPct val="65000"/>
              <a:buFont typeface="Monotype Sort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4" marL="2063880" indent="-228600"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5" marL="2063880" indent="-228600"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6" marL="2063880" indent="-228600"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566640" y="6499080"/>
            <a:ext cx="81201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©Ian Sommerville 2004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Software Engineering, 7th edition. Chapter 18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                  Slide  </a:t>
            </a:r>
            <a:fld id="{39DFCE2E-C21B-424A-988D-2A6FE7DE20E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pct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pct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ct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ct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2.pct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3.pct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6.pct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7.pct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pct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480" y="1752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Software Reus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-38160" y="3505320"/>
            <a:ext cx="914400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667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The reuse landscap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85680" y="1670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Although reuse is often simply thought of as the reuse of system components, there are many different approaches to reuse that may be used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Reuse is possible at a range of levels from simple functions to complete application systems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The reuse landscape covers the range of possible reuse techniques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304920" y="1676520"/>
            <a:ext cx="8458200" cy="44193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667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The reuse landscap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685800" y="2209680"/>
            <a:ext cx="7696080" cy="344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667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Reuse approaches 1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04920" y="1676520"/>
            <a:ext cx="8458200" cy="426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838080" y="1981080"/>
          <a:ext cx="8915400" cy="3872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981080"/>
                    <a:ext cx="8915400" cy="387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667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Reuse approaches 2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04920" y="1676520"/>
            <a:ext cx="8458200" cy="426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914400" y="1981080"/>
          <a:ext cx="8420040" cy="3984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981080"/>
                    <a:ext cx="8420040" cy="398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667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Reuse planning factor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85680" y="1670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The development schedule for the software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The expected software lifetime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The background, skills and experience of the development team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The criticality of the software and its non-functional requirements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The application domain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The execution platform for the software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667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Concept reus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85680" y="1670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460440" indent="-460440">
              <a:lnSpc>
                <a:spcPct val="90000"/>
              </a:lnSpc>
              <a:spcBef>
                <a:spcPts val="624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When you reuse program or design components, you have to follow the design decisions made by the original developer of the component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460440" indent="-460440">
              <a:lnSpc>
                <a:spcPct val="90000"/>
              </a:lnSpc>
              <a:spcBef>
                <a:spcPts val="624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This may limit the opportunities for reuse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460440" indent="-460440">
              <a:lnSpc>
                <a:spcPct val="90000"/>
              </a:lnSpc>
              <a:spcBef>
                <a:spcPts val="624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However, a more abstract form of reuse is concept reuse when a particular approach is described in an implementation independent way and an implementation is then developed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460440" indent="-460440">
              <a:lnSpc>
                <a:spcPct val="90000"/>
              </a:lnSpc>
              <a:spcBef>
                <a:spcPts val="624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The two main approaches to concept reuse are: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1024560" indent="-450720">
              <a:lnSpc>
                <a:spcPct val="90000"/>
              </a:lnSpc>
              <a:spcBef>
                <a:spcPts val="524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Design patterns;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1024560" indent="-450720">
              <a:lnSpc>
                <a:spcPct val="90000"/>
              </a:lnSpc>
              <a:spcBef>
                <a:spcPts val="524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Generative programming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667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Design pattern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85680" y="1670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A design pattern is a way of reusing abstract knowledge about a problem and its solution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A pattern is a description of the problem and the essence of its solution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It should be sufficiently abstract to be reused in different settings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Patterns often rely on object characteristics such as inheritance and polymorphism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667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Pattern element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85680" y="1670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1035000" indent="-455400">
              <a:spcBef>
                <a:spcPts val="575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A meaningful pattern identifier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Problem description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olution description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1035000" indent="-455400">
              <a:spcBef>
                <a:spcPts val="575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Not a concrete design but a template for a design solution that can be instantiated in different ways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onsequence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1035000" indent="-455400">
              <a:spcBef>
                <a:spcPts val="575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e results and trade-offs of applying the pattern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667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Multiple display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33520" y="1676520"/>
            <a:ext cx="8001000" cy="46479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1295280" y="1981080"/>
            <a:ext cx="6400800" cy="40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667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The Observer pattern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85680" y="1670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524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1035000" indent="-455400">
              <a:lnSpc>
                <a:spcPct val="9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Observer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524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Description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1035000" indent="-455400">
              <a:lnSpc>
                <a:spcPct val="9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Separates the display of object state from the object itself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524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Problem description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1035000" indent="-455400">
              <a:lnSpc>
                <a:spcPct val="9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Used when multiple displays of state are needed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524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Solution description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1035000" indent="-455400">
              <a:lnSpc>
                <a:spcPct val="9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See slide with UML description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524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Consequence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1035000" indent="-455400">
              <a:lnSpc>
                <a:spcPct val="9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Optimisations to enhance display performance are impractical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667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85680" y="1670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446400" indent="-4464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explain the benefits of software reuse and some reuse probl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6400" indent="-4464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discuss several different ways to implement software re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6400" indent="-4464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explain how reusable concepts can be represented as patterns or embedded in program genera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6400" indent="-4464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discuss COTS re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6400" indent="-4464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describe the development of software product li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667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The Observer pattern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80880" y="1828800"/>
            <a:ext cx="8458200" cy="41911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761976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667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Generator-based reus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85680" y="1670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Program generators involve the reuse of </a:t>
            </a:r>
            <a:br>
              <a:rPr sz="2700"/>
            </a:b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tandard patterns and algorithms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These are embedded in the generator and </a:t>
            </a:r>
            <a:br>
              <a:rPr sz="2700"/>
            </a:b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parameterised by user commands. A program is then automatically generated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Generator-based reuse is possible when domain abstractions and their mapping to executable code can be identified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A domain specific language is used to compose and control these abstractions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667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Types of program generator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85680" y="1670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5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ypes of program generator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1111320" indent="-455760">
              <a:lnSpc>
                <a:spcPct val="90000"/>
              </a:lnSpc>
              <a:spcBef>
                <a:spcPts val="524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Application generators for business data processing;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1111320" indent="-455760">
              <a:lnSpc>
                <a:spcPct val="90000"/>
              </a:lnSpc>
              <a:spcBef>
                <a:spcPts val="524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Parser and lexical analyser generators for language processing;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1111320" indent="-455760">
              <a:lnSpc>
                <a:spcPct val="90000"/>
              </a:lnSpc>
              <a:spcBef>
                <a:spcPts val="524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Code generators in CASE tools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5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Generator-based reuse is very cost-effective but its applicability is limited to a relatively small number of application domains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5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It is easier for end-users to develop programs using generators compared to other component-based approaches to reuse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79440" y="261720"/>
            <a:ext cx="844056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Reuse through program generation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80880" y="1905120"/>
            <a:ext cx="8458200" cy="3809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990720" y="2743200"/>
            <a:ext cx="7315200" cy="220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667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Aspect-oriented development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85680" y="1670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spcBef>
                <a:spcPts val="5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Aspect-oriented development addresses a major software engineering problem - the separation of concerns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5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Concerns are often not simply associated with application functionality but are cross-cutting - e.g. all components may monitor their own operation, all components may have to maintain security, etc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5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Cross-cutting concerns are implemented as aspects and are dynamically woven into a program. The concern code is reuse and the new system is generated by the aspect weaver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667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Aspect-oriented development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04920" y="1676520"/>
            <a:ext cx="8458200" cy="426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685800" y="2362320"/>
            <a:ext cx="7696080" cy="276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667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Application framework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85680" y="1670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rameworks are a sub-system design made up of a collection of abstract and concrete classes and the interfaces between them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The sub-system is implemented by adding components to fill in parts of the design and by instantiating the abstract classes in the framework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rameworks are moderately large entities that can be reused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667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Framework classe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85680" y="1670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ystem infrastructure framework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1035000" indent="-455400">
              <a:lnSpc>
                <a:spcPct val="9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Support the development of system infrastructures such as communications, user interfaces and compilers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Middleware integration framework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1035000" indent="-455400">
              <a:lnSpc>
                <a:spcPct val="9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Standards and classes that support component communication and information exchange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Enterprise application framework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1035000" indent="-455400">
              <a:lnSpc>
                <a:spcPct val="9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Support the development of specific types of application such as telecommunications or financial systems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667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Extending framework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85680" y="1670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spcBef>
                <a:spcPts val="5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Frameworks are generic and are extended to create a more specific application or sub-system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5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Extending the framework involves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1035000" indent="-455400">
              <a:spcBef>
                <a:spcPts val="524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Adding concrete classes that inherit operations from abstract classes in the framework;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1035000" indent="-455400">
              <a:spcBef>
                <a:spcPts val="524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Adding methods that are called in response to events that are recognised by the framework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5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Problem with frameworks is their complexity which means that it takes a long time to use them effectively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667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Model-view controller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85680" y="1670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ystem infrastructure framework for GUI design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Allows for multiple presentations of an object and separate interactions with these presentations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MVC framework involves the instantiation of a number of patterns (as discussed earlier under concept reuse)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667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Topics covered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5680" y="1670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The reuse landscape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Design pattern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Generator based reuse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Application framework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Application system reuse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667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Model-view-controller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03120" y="1593720"/>
            <a:ext cx="8423280" cy="46310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985680" y="2278080"/>
            <a:ext cx="7513920" cy="31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667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Application system reus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85680" y="1670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volves the reuse of entire application systems either by configuring a system for an environment or by integrating two or more systems to create a new applic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wo approaches covered her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5000" indent="-4554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TS product integratio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5000" indent="-4554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duct line developme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667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COTS product reus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85680" y="1670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423000" indent="-4230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TS - Commercial Off-The-Shelf system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23000" indent="-4230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TS systems are usually complete application systems that offer an API (Application Programming Interface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23000" indent="-4230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ilding large systems by integrating COTS systems is now a viable development strategy for some types of system such as E-commerce system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23000" indent="-4230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key benefit is faster application development and, usually, lower development cos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667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COTS design choice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85680" y="1670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5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Which COTS products offer the most appropriate functionality?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1035000" indent="-455400">
              <a:lnSpc>
                <a:spcPct val="90000"/>
              </a:lnSpc>
              <a:spcBef>
                <a:spcPts val="524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There may be several similar products that may be used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5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How will data be exchanged?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1035000" indent="-455400">
              <a:lnSpc>
                <a:spcPct val="90000"/>
              </a:lnSpc>
              <a:spcBef>
                <a:spcPts val="524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Individual products use their own data structures and formats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5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What features of the product will actually be used?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1035000" indent="-455400">
              <a:lnSpc>
                <a:spcPct val="90000"/>
              </a:lnSpc>
              <a:spcBef>
                <a:spcPts val="524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Most products have more functionality than is needed. You should try to deny access to unused functionality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667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E-procurement system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676520"/>
            <a:ext cx="7924680" cy="46479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600200" y="1981080"/>
            <a:ext cx="5791320" cy="39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667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COTS products reused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85680" y="1670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On the client, standard e-mail and web browsing programs are used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On the server, an e-commerce platform has to be integrated with an existing ordering system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1035000" indent="-455400">
              <a:spcBef>
                <a:spcPts val="575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s involves writing an adaptor so that they can exchange data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1035000" indent="-455400">
              <a:spcBef>
                <a:spcPts val="575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An e-mail system is also integrated to generate e-mail for clients. This also requires an adaptor to receive data from the ordering and invoicing system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79080" y="261720"/>
            <a:ext cx="815508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COTS system integration problem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85680" y="1670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spcBef>
                <a:spcPts val="5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Lack of control over functionality and performance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1035000" indent="-455400">
              <a:spcBef>
                <a:spcPts val="524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COTS systems may be less effective than they appear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5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Problems with COTS system inter-operability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1035000" indent="-455400">
              <a:spcBef>
                <a:spcPts val="524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Different COTS systems may make different assumptions that means integration is difficul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5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No control over system evolution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1035000" indent="-455400">
              <a:spcBef>
                <a:spcPts val="524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COTS vendors not system users control evolution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5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Support from COTS vendors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1035000" indent="-455400">
              <a:spcBef>
                <a:spcPts val="524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COTS vendors may not offer support  over the lifetime of the produc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667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Software product line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85680" y="1670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spcBef>
                <a:spcPts val="624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Software product lines or application families are applications with generic functionality that can be adapted and configured for use in a specific context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624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Adaptation may involve: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1035000" indent="-455400">
              <a:spcBef>
                <a:spcPts val="524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Component and system configuration;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1035000" indent="-455400">
              <a:spcBef>
                <a:spcPts val="524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Adding new components to the system;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1035000" indent="-455400">
              <a:spcBef>
                <a:spcPts val="524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Selecting from a library of existing components;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1035000" indent="-455400">
              <a:spcBef>
                <a:spcPts val="524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Modifying components to meet new requirements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667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COTS product specialisation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85680" y="1670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427680" indent="-427680">
              <a:lnSpc>
                <a:spcPct val="90000"/>
              </a:lnSpc>
              <a:spcBef>
                <a:spcPts val="5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Platform specialisation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952200" indent="-418680">
              <a:lnSpc>
                <a:spcPct val="90000"/>
              </a:lnSpc>
              <a:spcBef>
                <a:spcPts val="524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Different versions of the application are developed for different platforms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27680" indent="-427680">
              <a:lnSpc>
                <a:spcPct val="90000"/>
              </a:lnSpc>
              <a:spcBef>
                <a:spcPts val="5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Environment specialisation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952200" indent="-418680">
              <a:lnSpc>
                <a:spcPct val="90000"/>
              </a:lnSpc>
              <a:spcBef>
                <a:spcPts val="524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Different versions of the application are created to handle different operating environments e.g. different types of communication equipment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27680" indent="-427680">
              <a:lnSpc>
                <a:spcPct val="90000"/>
              </a:lnSpc>
              <a:spcBef>
                <a:spcPts val="5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Functional specialisation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952200" indent="-418680">
              <a:lnSpc>
                <a:spcPct val="90000"/>
              </a:lnSpc>
              <a:spcBef>
                <a:spcPts val="524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Different versions of the application are created for customers with different requirements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27680" indent="-427680">
              <a:lnSpc>
                <a:spcPct val="90000"/>
              </a:lnSpc>
              <a:spcBef>
                <a:spcPts val="5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Process specialisation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952200" indent="-418680">
              <a:lnSpc>
                <a:spcPct val="90000"/>
              </a:lnSpc>
              <a:spcBef>
                <a:spcPts val="524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Different versions of the application are created to support different business processes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667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COTS configuration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85680" y="1670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Deployment time configuration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1035000" indent="-455400">
              <a:spcBef>
                <a:spcPts val="575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A generic system is configured by embedding knowledge of the customer’s requirements and business processes. The software itself is not changed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Design time configuration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1035000" indent="-455400">
              <a:spcBef>
                <a:spcPts val="575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A common generic code is adapted and changed according to the requirements of particular customers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667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Software reus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985680" y="1670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In most engineering disciplines, systems are designed by composing existing components that have been used in other systems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oftware engineering has been more focused on original development but it is now recognised that to achieve better software, more quickly and at lower cost, we need to adopt a design process that is based on </a:t>
            </a:r>
            <a:r>
              <a:rPr b="0" i="1" lang="en-US" sz="2700" spc="-1" strike="noStrike">
                <a:solidFill>
                  <a:srgbClr val="ffffff"/>
                </a:solidFill>
                <a:latin typeface="Arial"/>
              </a:rPr>
              <a:t>systematic software reuse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667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ERP system organisation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1676520"/>
            <a:ext cx="8458200" cy="46479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447920" y="1905120"/>
            <a:ext cx="6019560" cy="40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667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ERP system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85680" y="1670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An Enterprise Resource Planning (ERP) system is a generic system that supports common business processes such as ordering and invoicing, manufacturing, etc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These are very widely used in large companies - they represent probably the most common form of software reuse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The generic core is adapted by including modules and by incorporating knowledge of business processes and rules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667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Design time configuration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85680" y="1670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oftware product lines that are configured at design time are instantiations of generic application architectures as discussed in Chapter 13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Generic products usually emerge after experience with specific products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667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Product line architecture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85680" y="1670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Architectures must be structured in such a way to separate different sub-systems and to allow them to be modified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The architecture should also separate entities and their descriptions and the higher levels in the system access entities through descriptions rather than directly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667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A resource management system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990720" y="1676520"/>
            <a:ext cx="7086600" cy="46479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828800" y="1905120"/>
            <a:ext cx="5181480" cy="424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667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Vehicle despatching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85680" y="1670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spcBef>
                <a:spcPts val="524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A specialised resource management system where the aim is to allocate resources (vehicles) to handle incidents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524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Adaptations include: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1035000" indent="-455400"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At the UI level, there are components for operator display and communications;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1035000" indent="-455400"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At the I/O management level, there are components that handle authentication, reporting and route planning;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1035000" indent="-455400"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At the resource management level, there are components for vehicle location and despatch, managing vehicle status and incident logging;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1035000" indent="-455400"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The database includes equipment, vehicle and map databases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667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A despatching system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62120" y="1600200"/>
            <a:ext cx="7543800" cy="46483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447920" y="1905120"/>
            <a:ext cx="6019560" cy="41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667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Product instance development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04920" y="1981080"/>
            <a:ext cx="8458200" cy="3276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685800" y="2743200"/>
            <a:ext cx="762012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667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Product instance development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85680" y="1670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441720" indent="-441720">
              <a:lnSpc>
                <a:spcPct val="90000"/>
              </a:lnSpc>
              <a:spcBef>
                <a:spcPts val="5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Elicit stakeholder requirements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983160" indent="-432360">
              <a:lnSpc>
                <a:spcPct val="90000"/>
              </a:lnSpc>
              <a:spcBef>
                <a:spcPts val="524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Use existing family member as a prototype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41720" indent="-441720">
              <a:lnSpc>
                <a:spcPct val="90000"/>
              </a:lnSpc>
              <a:spcBef>
                <a:spcPts val="5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Choose closest-fit family member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983160" indent="-432360">
              <a:lnSpc>
                <a:spcPct val="90000"/>
              </a:lnSpc>
              <a:spcBef>
                <a:spcPts val="524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Find the family member that best meets the requirement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41720" indent="-441720">
              <a:lnSpc>
                <a:spcPct val="90000"/>
              </a:lnSpc>
              <a:spcBef>
                <a:spcPts val="5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Re-negotiate requirements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983160" indent="-432360">
              <a:lnSpc>
                <a:spcPct val="90000"/>
              </a:lnSpc>
              <a:spcBef>
                <a:spcPts val="524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Adapt requirements as necessary to capabilities of the software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41720" indent="-441720">
              <a:lnSpc>
                <a:spcPct val="90000"/>
              </a:lnSpc>
              <a:spcBef>
                <a:spcPts val="5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Adapt existing system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983160" indent="-432360">
              <a:lnSpc>
                <a:spcPct val="90000"/>
              </a:lnSpc>
              <a:spcBef>
                <a:spcPts val="524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Develop new modules and make changes for family member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41720" indent="-441720">
              <a:lnSpc>
                <a:spcPct val="90000"/>
              </a:lnSpc>
              <a:spcBef>
                <a:spcPts val="5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eliver new family member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983160" indent="-432360">
              <a:lnSpc>
                <a:spcPct val="90000"/>
              </a:lnSpc>
              <a:spcBef>
                <a:spcPts val="524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Document key features for further member developmen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985680" y="1670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5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Advantages of reuse are lower costs, faster software development and lower risks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5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esign patterns are high-level abstractions that document successful design solutions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5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Program generators are also concerned with software reuse - the reusable concepts are embedded in a generator system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5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Application frameworks are collections of concrete and abstract objects that are designed for reuse through specialisation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title"/>
          </p:nvPr>
        </p:nvSpPr>
        <p:spPr>
          <a:xfrm>
            <a:off x="6667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Key point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79080" y="261720"/>
            <a:ext cx="80024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Reuse-based software engineering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28480" y="1670040"/>
            <a:ext cx="82915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Application system reuse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1035000" indent="-455400">
              <a:lnSpc>
                <a:spcPct val="9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e whole of an application system may be reused either by incorporating it without change into other systems (COTS reuse) or by developing application families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omponent reuse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1035000" indent="-455400">
              <a:lnSpc>
                <a:spcPct val="9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Components of an application from sub-systems to single objects may be reused. Covered in Chapter 19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Object and function reuse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1035000" indent="-455400">
              <a:lnSpc>
                <a:spcPct val="9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Software components that implement a single well-defined object or function may be reused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667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Key point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85680" y="1670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spcBef>
                <a:spcPts val="5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COTS product reuse is concerned with the reuse of large, off-the-shelf systems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5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Problems with COTS reuse include lack of control over functionality, performance, and evolution and problems with inter-operation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5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ERP systems are created by configuring a generic system with information about a customer’s business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5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Software product lines are related applications developed around a common core of shared functionality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667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Reuse benefits 1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828800"/>
            <a:ext cx="8458200" cy="38862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533520" y="2362320"/>
          <a:ext cx="8153280" cy="3106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362320"/>
                    <a:ext cx="8153280" cy="31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667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Reuse benefits 2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4920" y="1828800"/>
            <a:ext cx="8458200" cy="3581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533520" y="2286000"/>
          <a:ext cx="8572320" cy="2940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286000"/>
                    <a:ext cx="8572320" cy="294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667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Reuse problems 1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1676520"/>
            <a:ext cx="8458200" cy="41148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533520" y="2209680"/>
          <a:ext cx="8343720" cy="3399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209680"/>
                    <a:ext cx="8343720" cy="339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667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Reuse problems 2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4920" y="1981080"/>
            <a:ext cx="8458200" cy="29718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457200" y="2438280"/>
          <a:ext cx="8077320" cy="2286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438280"/>
                    <a:ext cx="807732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1-30T19:12:41Z</dcterms:created>
  <dc:creator/>
  <dc:description/>
  <dc:language>en-US</dc:language>
  <cp:lastModifiedBy>Ian Sommerville</cp:lastModifiedBy>
  <cp:lastPrinted>2004-05-18T20:35:13Z</cp:lastPrinted>
  <dcterms:modified xsi:type="dcterms:W3CDTF">2004-05-18T20:35:32Z</dcterms:modified>
  <cp:revision>35</cp:revision>
  <dc:subject/>
  <dc:title>Design with Reuse</dc:title>
</cp:coreProperties>
</file>