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.pct" ContentType="image/x-pict"/>
  <Override PartName="/ppt/media/image2.pct" ContentType="image/x-pict"/>
  <Override PartName="/ppt/media/image14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7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Slide  </a:t>
            </a:r>
            <a:fld id="{BA62135D-7A03-4B71-9DCE-8AC8B0E3AA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780444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pid softwar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ome large systems, incremental iterative development and delivery may be impractical; this is especially true when multiple teams are working on different s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yping, where an experimental system is developed as a basis for formulating the requirements may be used. This system is thrown away when the system specification has been agr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mental development and prototy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69608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licting 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incremental developmen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o deliver a working system to end-users. The development starts with those requirements which are best underst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throw-away prototy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o validate or derive the system requirements. The prototyping process starts with those requirements which are poorly underst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ile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atisfaction with the overheads involved in design methods led to the creation of agile methods. These 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the code rather than the desig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based on an iterative approach to software develop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intended to deliver working software quickly and evolve this quickly to meet changing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 methods are probably best suited to small/medium-sized business systems or PC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agile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05120"/>
          <a:ext cx="7848720" cy="45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84872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agile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difficult to keep the interest of customers who are involved in the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members may be unsuited to the intense involvement that characterises agile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sing changes can be difficult where there are multiple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implicity requires extra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s may be a problem as with other approaches to iterative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e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haps the best-known and most widely used agile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Programming (XP) takes an ‘extreme’ approach to iterative develop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ersions may be built several times per d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s are delivered to customers every 2 week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ests must be run for every build and the build is only accepted if tests run successfu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XP releas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62012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600" y="306000"/>
            <a:ext cx="809316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eme programming practice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905120"/>
          <a:ext cx="7543800" cy="430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54380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816912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eme programming practice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905120"/>
          <a:ext cx="7162920" cy="431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162920" cy="43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an iterative, incremental development process leads to faster delivery of more usefu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essence of agile developmen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principles and practices of extreme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roles of prototyping in the softwa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P and agile 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development is supported through small, frequent system rel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involvement means full-time customer engagement with the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not process through pair programming, collective ownership and a process that avoids long working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supported through regular system rel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implicity through constant refactoring of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scen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XP, user requirements are expressed as scenarios or user s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written on cards and the development team break them down into implementation tasks. These tasks are the basis of schedule and cost estim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stomer chooses the stories for inclusion in the next release based on their priorities and the schedule estim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y card for document downlo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P and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 wisdom in software engineering is to design for change. It is worth spending time and effort anticipating changes as this reduces costs later in the life cy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P, however, maintains that this is not worthwhile as changes cannot be reliably anticip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, it proposes constant code improvement (refactoring) to make changes easier when they have to be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in X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-first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l test development from scen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involvement in test development and valid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test harnesses are used to run all component tests each time that a new release is bui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600" y="306000"/>
            <a:ext cx="809316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k cards for document downlo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771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-first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tests before code clarifies the requirements to be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are written as programs rather than data so that they can be executed automatically. The test includes a check that it has executed cor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revious and new tests are automatically run when new functionality is added. Thus  checking that the new functionality has not introduced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ir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XP, programmers work in pairs, sitting together to develop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elps develop common ownership of code and spreads knowledge across the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erves as an informal review process as each line of code is looked at by more than 1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ncourages refactoring as the whole team can benefit from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suggest that development productivity with pair programming is similar to that of two people working independ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pid application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le methods have received a lot of attention but other approaches to rapid application development have been used for many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esigned to develop data-intensive business applications and rely on programming and presenting information from a data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le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D environment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programm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 gen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to offic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gen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AD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gene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pplications are based around complex forms and developing these forms manually is a time-consuming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 environments include support for screen generation inclu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ve form definition using drag and drop techniqu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 linking where the sequence of forms to be presented is specifi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 verification where allowed ranges in form fields is def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sual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 such as Visual Basic support visual programming where the prototype is developed by creating a user interface from standard items and associating components with these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rge library of components exists to support this type of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ay be tailored to suit the specific applic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sual programming with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with visu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coordinate team-based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plicit system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dependencies between parts of the program can cause maintainability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S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ffective approach to rapid development is to configure and link existing off the shelf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a requirements management system could be built by 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tabase to store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ord processor to capture requirements and format repor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readsheet for traceability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und doc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ome applications, a prototype can be created by developing a compound doc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document with active elements (such as a spreadsheet) that allow user compu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active element has an associated application which is invoked when that element is s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ument itself is the integrator for the different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li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totype is an initial version of a system used to demonstrate concepts and try out design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totype can be used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quirements engineering process to help with requirements elicitation and valid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sign processes to explore options and develop a UI desig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testing process to run back-to-back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336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pid softwar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rapidly changing business environments, businesses have to respond to new opportunities and compet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quires software and rapid development and delivery is not often the most critical requirement for softwar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es may be willing to accept lower quality software if rapid delivery of essential functionality i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system us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r match to users’ real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design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development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 to back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23880"/>
            <a:ext cx="5791320" cy="472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30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totyp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05740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07696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w-away proto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ypes should be discarded after development as they are not a good basis for a production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impossible to tune the system to meet non-functional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s are normally undocumen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totype structure is usually degraded through rapid chan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totype probably will not meet normal organisational quality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terative approach to software development leads to faster delivery of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 methods are iterative development methods that aim to reduce development overhead and so produce software fa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 programming includes practices such as systematic testing, continuous improvement and customer invol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ach to testing in XP is a particular strength where executable tests are developed before the code is writ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application development environments include database programming languages, form generation tools and links to office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row-away prototype is used to explore requirements and design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mplementing a throw-away prototype, start with the requirements you least understand; in incremental development, start with the best-understood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 changing environment, it is often impossible to arrive at a stable, consistent set of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 a waterfall model of development is impractical and an approach to development based on iterative specification and delivery is the only way to deliver software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of RAD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es of specification, design and implementation are concurrent. There is no detailed specification and design documentation is mini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developed in a series of increments. End users evaluate each increment and make proposals for later inc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user interfaces are usually developed using an interactive development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iterative develop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6000"/>
            <a:ext cx="85345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s of increment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Accelerated delivery of customer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Each increment delivers the highest priority functionality to the cust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User engagement with the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Users have to be involved in the development which means the system is more likely to meet their requirements and the users are more committed to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6000"/>
            <a:ext cx="845820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with incremental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0000"/>
          </a:bodyPr>
          <a:p>
            <a:pPr marL="439920" indent="-43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anagement probl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920" indent="-43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ess can be hard to judge and problems hard to find because there is no documentation to demonstrate what has been d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ractu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920" indent="-43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mal contract may include a specification; without a specification, different forms of contract have to b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Validation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920" indent="-43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a specification, what is the system being tested again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aintenanc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920" indent="-43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l change tends to corrupt software structure making it more expensive to change and evolve to meet new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13:55:48Z</dcterms:created>
  <dc:creator/>
  <dc:description/>
  <dc:language>en-US</dc:language>
  <cp:lastModifiedBy>Ian Sommerville</cp:lastModifiedBy>
  <cp:lastPrinted>2004-05-18T08:33:48Z</cp:lastPrinted>
  <dcterms:modified xsi:type="dcterms:W3CDTF">2004-05-18T08:33:55Z</dcterms:modified>
  <cp:revision>41</cp:revision>
  <dc:subject/>
  <dc:title>User interface design</dc:title>
</cp:coreProperties>
</file>