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1.png" ContentType="image/png"/>
  <Override PartName="/ppt/media/image13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12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9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041436B6-5284-41FE-9B98-39040D7056C8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-based software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as a service provi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onent is an independent, executable entity. It does not have to be compiled before it is used with other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ices offered by a component are made available through an interface and all component interactions take place through that inte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characteristic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682640"/>
            <a:ext cx="8493120" cy="4665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520" y="1981080"/>
          <a:ext cx="7848360" cy="39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784836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characteristic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040" y="1905120"/>
            <a:ext cx="849312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2590920"/>
          <a:ext cx="7848720" cy="26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784872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onent interfa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s the services that are provided by the component to other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s the services that specifies what services must be made available for the component to execute as spec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interfa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057400"/>
            <a:ext cx="849312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4674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ata collector compon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3915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s and obj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are deployable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do not define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implementations are opa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are language-indepen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are standardi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onent model is a definition of standards for component implementation, documentation and deploy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mponent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B model (Enterprise Java Be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+ model (.NET mod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ba Componen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model specifies how interfaces should be defined and the elements that should be included in an interface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ments of a component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866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dleware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models are the basis for middleware that provides support for executing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model implementations prov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form services that allow components written according to the model to communica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rvices that are application-independent services used by different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services provided by a model, components are deployed in a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ainer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set of interfaces used to access the service impleme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at CBSE is concerned with developing standardised components and composing thes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components and componen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how the principal activities in the CBS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approaches to component composition and problems that may a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model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102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onent development for re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developed for a specific application usually have to be generalised to make them reus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onent is most likely to be reusable if it associated with a stable domain abstraction (business objec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in a hospital stable domain abstractions are associated with the fundamental purpose - nurses, patients, treatmen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035920" cy="1108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onent development for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omponents for reuse may be specially constructed by generalising existing compon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omponent reusabil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ould reflect stable domain abstract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ould hide state repres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ould be as independent as possib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ould publish exceptions through the component inte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re is a trade-off between reusability and usabil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ore general the interface, the greater the reusability but it is then more complex and hence less u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s for reus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application-specific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names to make them gen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methods to broaden cove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exception handling consis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 configuration interface for component adap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required components to reduce dependen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acy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legacy systems that fulfil a useful business function can be re-packaged as components for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volves writing a wrapper component that implements provides and requires interfaces then accesses the legacy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costly, this can be much less expensive than rewriting the legacy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usable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evelopment cost of reusable components may be higher than the cost of specific equivalents. This extra reusability enhancement cost should be an organization rather than a projec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ic components may be les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ace-efficient and may have longer execution times than their specific equival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BS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eusing components, it is essential to make trade-offs between ideal requirements and the services actually provided by available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vol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outline requir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ing for components then modifying requirements according to available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ing again to find if there are better components that meet the revised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BS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3911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mponent identifi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09680"/>
            <a:ext cx="8458200" cy="30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identification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Tr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You need to be able to trust the supplier of a component. At best, an untrusted component may not operate as advertised; at worst, it can breach your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ifferent groups of components will satisfy different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Valid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onent specification may not be detailed enough to allow comprehensive tests to be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 may have unwanted functionality. How can you test this will not interfere with your applic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and componen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BS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ane launcher fail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96, the 1st test flight of the Ariane 5 rocket ended in disaster when the launcher went out of control 37 seconds after take o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blem was due to a reused component from a previous version of the launcher (the Inertial Navigation System) that failed because assumptions made when that component was developed did not hold for Ariane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unctionality that failed in this component was not required in Ariane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assembling components to creat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ion involves integrating components with each other and with the component infra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you have to write ‘glue code’ to integrate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quential compos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ere the composed components are executed in sequence. This involves composing the provides interfaces of each compon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Hierarchical compos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ere one component calls on the services of another. The provides interface of one component is composed with the requires interface of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dditive compos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ere the interfaces of two components are put together to create a new compon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3915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incompati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Parameter 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re operations have the same name but are of different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Operation 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re the names of operations in the composed interfaces are diffe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Operation incomplet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re the provides interface of one component is a subset of the requires interface of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ompatible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ptor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the problem of component incompatibility by reconciling the interfaces of the components that are compo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types of adaptor are required depending on the type of 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dressFinder and a mapper component may be composed through an adaptor that strips the postal code from an address and passes this to the mapper compo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3657600"/>
            <a:ext cx="8458200" cy="19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3962520"/>
          <a:ext cx="7696080" cy="126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69608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ition through an adap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onent postCodeStripper is the adaptor that facilitates the sequential composition of addressFinder and mapper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ptor for data colle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98108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4678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seman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o rely on component documentation to decide if interfaces that are syntactically compatible are actually compat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an interface for a PhotoLibrary compon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95680"/>
            <a:ext cx="8458200" cy="167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4648320"/>
          <a:ext cx="10744200" cy="110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1074420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onent-based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onent-based software engineering (CBSE) is an approach to software development that relies on software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emerged from the failure of object-oriented development to support effective reuse. Single object classes are too detailed and specif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onents are more abstract than object classes and can be considered to be stand-alone service provi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oto library 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90512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oto Library docu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05740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is method adds a photograph to the library and associates the photograph identifier and catalogue descriptor with the photograph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at happens if the photograph identifier is already associated with a photograph in the library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s the photograph descriptor associated with the catalogue entry as well as the photograph i.e. if I delete the photograph, do I also delete the catalogue information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ject Constraint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Constraint Language (OCL) has been designed to define constraints that are associated with UML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ased around the notion of pre and post condition specification - similar to the approach used in Z as described in Chapter 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al description of photo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1828800"/>
          <a:ext cx="6705720" cy="42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70572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oto library 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specified, the OCL associated with the Photo Library component stat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must not be a photograph in the library with the same identifier as the photograph to be enter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ibrary must exist - assume that creating a library adds a single item to i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new entry increases the size of the library by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retrieve using the same identifier then you get back the photo that you add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up the catalogue using that identifier, then you get back the catalogue entry that you m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ition trade-off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omposing components, you may find conflicts between functional and non-functional requirements, and conflicts between the need for rapid delivery and system ev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eed to make decisions such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mposition of components is effective for delivering the functional requireme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mposition of components allows for future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be the emergent properties of the composed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collection and report gene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438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SE is a reuse-based approach to defining and implementing loosely coupled components into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onent is a software unit whose functionality and dependencies are completely defined by its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onent model defines a set of standards that component providers and composers should fol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CBSE process, the processes of requirements engineering and system design are interlea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composition is the process of ‘wiring’ components together to creat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posing reusable components, you normally have to write adaptors to reconcile different component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oosing compositions, you have to consider required functionality, non-functional requirements and system 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BSE essent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Independent compon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cified by their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Component standa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facilitate component integ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Middlew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ovides support for component inter-op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A development pro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is geared to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BSE and design 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art from the benefits of reuse, CBSE is based on sound software engineering design princi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s are independent so do not interfere with each oth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implementations are hidd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is through well-defined interfa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platforms are shared and reduce development co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BS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Component trustworthines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how can a component with no available source code be trus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Component certific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o will certify the quality of compon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Emergent property predic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how can the emergent properties of component compositions be predic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Requirements trade-off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how do we do trade-off analysis between the features of one component and an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onents provide a service without regard to where the component is executing or its programm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omponent is an independent executable entity that can be made up of one or more executable obje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mponent interface is published and all interactions are through the published interfa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defin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cill and Heinman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 software component is a software element that conforms to a component model and can be independently deployed and composed without modification according to a composition stand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ypersk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 software component is a unit of composition with contractually specified interfaces and explicit context dependencies only. A software component can be deployed independently and is subject to composition by third-par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20:14:16Z</dcterms:created>
  <dc:creator>Ian Sommerville</dc:creator>
  <dc:description/>
  <dc:language>en-US</dc:language>
  <cp:lastModifiedBy>Ian Sommerville</cp:lastModifiedBy>
  <dcterms:modified xsi:type="dcterms:W3CDTF">2004-05-20T13:25:02Z</dcterms:modified>
  <cp:revision>14</cp:revision>
  <dc:subject/>
  <dc:title>PowerPoint Presentation</dc:title>
</cp:coreProperties>
</file>